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8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340-FE36-44AD-8EC0-B2ABAABA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97E-E01D-46B6-9666-B9681A78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487-D41C-417C-9DBB-D9161043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08D-D8D3-4442-BB08-23A65346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DACF-0150-463E-B9B3-544C4598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E5A3-FA7E-469C-A6E2-16D8F471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B08C-CA15-4CCF-9748-21FFAF88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C7C0-0B4E-46BB-9D74-8FA03F47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A38D-3BFF-49F9-A00C-547C69E8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F326-AA6C-4130-AE03-30310B0D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2DBC-EE4E-4A73-9A26-13AA173A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43B-2125-44AF-B4F8-4A2DFA6D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2D6B-4330-4AFC-B6B1-9B2D94CC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410E-7202-4D7F-90E3-AE73EF3D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9146-A904-44E9-9AD5-9DC74376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E37D-3047-4E4A-8649-26ED7B39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776A-5390-4383-956D-41837F79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BB1-4A04-49C0-967D-6F3D7C1E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1508-F99F-4FB6-8EED-E58B967D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C52-F446-43BE-A503-C8A960EB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4C9-0759-4492-B0C8-8541029B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0DA-4681-4DE2-97A7-205C4797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74B-D4C5-4001-8DB6-791C767F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F59-AF0B-4763-B5AC-C0FFC63E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E2DA-4B0C-4100-8E63-47CE6F84967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677E-E051-4F1E-8952-8A4D49BEEBA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73120" y="30240"/>
            <a:ext cx="790092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786040" y="4857840"/>
            <a:ext cx="6114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  ученик 7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“A”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класса Котерев Дмитр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гималаи.jpg"/>
          <p:cNvPicPr/>
          <p:nvPr/>
        </p:nvPicPr>
        <p:blipFill>
          <a:blip r:embed="rId1"/>
          <a:stretch/>
        </p:blipFill>
        <p:spPr>
          <a:xfrm>
            <a:off x="285840" y="3143160"/>
            <a:ext cx="450036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8" descr="гималаи 2.jpg"/>
          <p:cNvPicPr/>
          <p:nvPr/>
        </p:nvPicPr>
        <p:blipFill>
          <a:blip r:embed="rId2"/>
          <a:stretch/>
        </p:blipFill>
        <p:spPr>
          <a:xfrm>
            <a:off x="5143680" y="3143160"/>
            <a:ext cx="3714480" cy="335772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9" descr=""/>
          <p:cNvPicPr/>
          <p:nvPr/>
        </p:nvPicPr>
        <p:blipFill>
          <a:blip r:embed="rId3"/>
          <a:stretch/>
        </p:blipFill>
        <p:spPr>
          <a:xfrm>
            <a:off x="171360" y="262080"/>
            <a:ext cx="8801280" cy="2944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208080" y="360360"/>
            <a:ext cx="8667720" cy="322416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4" descr="як.jpg"/>
          <p:cNvPicPr/>
          <p:nvPr/>
        </p:nvPicPr>
        <p:blipFill>
          <a:blip r:embed="rId2"/>
          <a:stretch/>
        </p:blipFill>
        <p:spPr>
          <a:xfrm>
            <a:off x="214200" y="3571920"/>
            <a:ext cx="449604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5" descr="як 2.jpg"/>
          <p:cNvPicPr/>
          <p:nvPr/>
        </p:nvPicPr>
        <p:blipFill>
          <a:blip r:embed="rId3"/>
          <a:stretch/>
        </p:blipFill>
        <p:spPr>
          <a:xfrm>
            <a:off x="4929120" y="3786120"/>
            <a:ext cx="403884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11040" y="274680"/>
            <a:ext cx="8508960" cy="287028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снежн коза.jpg"/>
          <p:cNvPicPr/>
          <p:nvPr/>
        </p:nvPicPr>
        <p:blipFill>
          <a:blip r:embed="rId2"/>
          <a:stretch/>
        </p:blipFill>
        <p:spPr>
          <a:xfrm>
            <a:off x="285840" y="3500280"/>
            <a:ext cx="4214880" cy="289728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снежн коза 2.jpg"/>
          <p:cNvPicPr/>
          <p:nvPr/>
        </p:nvPicPr>
        <p:blipFill>
          <a:blip r:embed="rId3"/>
          <a:stretch/>
        </p:blipFill>
        <p:spPr>
          <a:xfrm>
            <a:off x="4786200" y="3500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103320" y="225360"/>
            <a:ext cx="8613720" cy="29876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снежный барс.jpg"/>
          <p:cNvPicPr/>
          <p:nvPr/>
        </p:nvPicPr>
        <p:blipFill>
          <a:blip r:embed="rId2"/>
          <a:stretch/>
        </p:blipFill>
        <p:spPr>
          <a:xfrm>
            <a:off x="214200" y="3500280"/>
            <a:ext cx="4143600" cy="305280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5" descr="снежный барс 2.jpg"/>
          <p:cNvPicPr/>
          <p:nvPr/>
        </p:nvPicPr>
        <p:blipFill>
          <a:blip r:embed="rId3"/>
          <a:stretch/>
        </p:blipFill>
        <p:spPr>
          <a:xfrm>
            <a:off x="4643280" y="3500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139680" y="212760"/>
            <a:ext cx="8864640" cy="235908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4" descr="ламы.jpg"/>
          <p:cNvPicPr/>
          <p:nvPr/>
        </p:nvPicPr>
        <p:blipFill>
          <a:blip r:embed="rId2"/>
          <a:stretch/>
        </p:blipFill>
        <p:spPr>
          <a:xfrm>
            <a:off x="285840" y="2714760"/>
            <a:ext cx="4038480" cy="389556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5" descr="лама 2.jpg"/>
          <p:cNvPicPr/>
          <p:nvPr/>
        </p:nvPicPr>
        <p:blipFill>
          <a:blip r:embed="rId3"/>
          <a:stretch/>
        </p:blipFill>
        <p:spPr>
          <a:xfrm>
            <a:off x="4714920" y="2714760"/>
            <a:ext cx="4143240" cy="3071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165240" y="146160"/>
            <a:ext cx="8637480" cy="3444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кондор.JPG"/>
          <p:cNvPicPr/>
          <p:nvPr/>
        </p:nvPicPr>
        <p:blipFill>
          <a:blip r:embed="rId2"/>
          <a:stretch/>
        </p:blipFill>
        <p:spPr>
          <a:xfrm>
            <a:off x="214200" y="3714840"/>
            <a:ext cx="4357800" cy="26748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кондора.jpg"/>
          <p:cNvPicPr/>
          <p:nvPr/>
        </p:nvPicPr>
        <p:blipFill>
          <a:blip r:embed="rId3"/>
          <a:stretch/>
        </p:blipFill>
        <p:spPr>
          <a:xfrm>
            <a:off x="4786200" y="3786120"/>
            <a:ext cx="4038840" cy="2673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4-01-13T16:15:08Z</dcterms:modified>
  <cp:revision>13</cp:revision>
  <dc:subject/>
  <dc:title>Животные горных областей</dc:title>
</cp:coreProperties>
</file>