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350-5984-4DEC-B996-062DF0C6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957-C1BB-4A4A-9FF5-1EF981B3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A1D2-F424-4720-ABC7-C9AD8092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73A-718A-4351-93F3-BD4770F8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3596-361D-46B1-ADA4-D2E2435B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B3D0-A05B-4CC2-ADFE-768EFEBA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FF17-5E51-4304-A483-97BB0335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A396-A5BC-45DF-9CFD-20A122CE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7303-B574-47D4-AFE9-78820C86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C79C-AA38-4E47-BA7C-2050F331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9227-D0B4-43E2-9A5F-0BF56061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36FA-D2BC-4A0D-8356-002D9A26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DE71-46F1-4460-B45B-5AD93BF2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54FE-8F38-460F-9D7C-4B885E99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5A98-12A4-44A9-BFE0-337ED164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2CAD-0D9D-4265-85DB-A19887E1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EC82-3609-4201-B6AB-B2E5B837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505-AAAD-44D0-9C85-19ED912A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AC32-28F7-48CA-89B7-4EB51FE1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18A-4965-4722-B4DB-8993467D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801-95A7-41DC-831E-96007371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164-33B5-46E1-A174-45E5EED8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DD7-7084-4150-A243-30A27EDA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C39-8C29-4469-8BD4-4AC7F4E4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A135-E29A-4329-AD06-556F6609C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58B9-0A76-4475-A8A8-DFEE2F0460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Водоём как многоэтажное жилище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ла работу: Максименко Вла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собенност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Плотность более высокая, чем плотность воздуха. Благодаря этому огромное число животных способно как бы парить в водной толщине, никогда не опускаться на д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Вода менее прозрачна, чем воздух. На глубине 200 м царят сумерки, а на большие глубины никогда не проникает солнечный св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Вода обладает высокой теплоёмкостью, чем воздух (поэтому купальщики так быстро мёрзнут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Бенто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Планкт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Нект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Литора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496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Бентос (от греч. бентос – глубина.)  –животные которые можно обнаружить на дне. Это различные губки, кишечнополостные (кораллы и актинии), плоские и кольчатые черви. Так же  креветки, раки и крабы, двухстворчатые и брюхоногие моллюс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724280" cy="2819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4724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ланктон (от греч. планктос – блуждающие.) – животные у которых плотность тела не отличается от плотности воды и поэтому они способны, «висеть» в её толщине. Помогает им в этом многочисленные выросты на теле. Это радиолярии, медузы, маленькие рачки, гребе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648320" y="1146240"/>
            <a:ext cx="4495680" cy="2806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648320" y="3981600"/>
            <a:ext cx="44956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ектон (от греч. нектос – плывущий.)- это животные которые обитают в толщине воды и легко справляются с самыми сильными течениями и развивают большую скорость. Наиболее типичные нектонные животные – это рыбы, киты, дельфины, кальмары. Развивают скорость очень большую до 130 к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4302360" cy="2763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Литораль ( от лат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us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реговой.)- это животные которые обитают на границе водной и наземно-воздушной среде.  Это крабы, раки, илистый прыгу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4114800" cy="2895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52280" y="3962520"/>
            <a:ext cx="4114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2-17T15:14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