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drumroll.wav" ContentType="audio/x-wav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applause.wav" ContentType="audio/x-wav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7DD-C87E-4278-B84D-B17D49CD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51A-B13F-433C-9394-CF894F34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53D-B410-41C9-B81B-8DE26593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0BA-E741-481D-8B4E-A50863A0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CD6C-E1AA-40AD-A843-4199D63A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3043-1F81-4CFE-A44C-8AB6F9BF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1F48-CF1C-4831-BA85-FFF14F7F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DF15-6A75-4226-BCD5-8F69E404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2134-B1D2-494C-8CD1-B2B2EEB7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779A-3FB8-485F-B8E2-A8550C16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D2AF-DC2E-4394-9ABA-E386DC6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4CD-2662-4C07-ADDF-674A9871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273E-CD63-437B-9BC0-F436FCC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9894-D60F-4375-8F06-4D487694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AE15-A6BE-4AD3-A9B7-8EDAEC32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DE5E-C65B-49B6-A7C9-B5D64A8E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3847-C800-4962-9750-5560ED30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1DC6-5E46-4930-A69F-98EA87C6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EF6D-59A9-4D3D-8B76-226B73B3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5A46-761B-49C0-899B-8A6163D8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5A23-9BA4-4283-BB70-35F85D6B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84BD-F7DB-47C8-8E7A-C0EB8376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015-AF1D-4757-AA3A-AEABB627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1CD9-8CF6-4383-AF43-1E403615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2066-70F3-4319-83DE-3E2A4C4C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D38A-3EC6-449C-BB32-6A91319F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2AE8-369E-4B45-9184-2985BA7E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BCF5-9F6F-43DF-91C2-E9ECD9C4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DC57-EF78-4C6B-80F4-6EE43FC1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A15C-69CD-4BE9-AFFE-9DFAD920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D1EB-CE09-40A3-9694-9687215B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69D17-552D-4310-A400-3827E086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5095-3192-490B-A2BD-E328AAE2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203-7FD7-4748-97F3-4A779623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3A45-41A3-4A46-B7CA-5FFF7EC9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3E88-3FDE-4BAB-A24C-60192CAF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3DFA-A18B-4C54-A7C1-B068DE64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A931-D179-4908-90E1-AA840889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898B3-80C3-4B93-940F-8D0A266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3219-A429-45BD-9E64-F0A0E6FD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7E6F-B02C-4B91-948C-0DB8008B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1AD1-4ED6-41C5-AEC5-4D2BA59F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FA455-12F9-4484-9AD2-DD20B7EA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09C-91B5-4682-8099-782FE908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B12-71C6-4360-A6A2-DF56F2D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C9B-5336-445A-8387-B512460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CB3-1097-4A44-AA4F-918554BD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28B-91C3-4370-8481-26BE063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B365-C250-4707-A546-008C9E359B8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1EF4-952D-488F-BC2E-39D8B25443D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9FA5-6B84-4475-97CF-D1EDABB6D6E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4A9C-4CEB-4D48-86ED-4878386AD92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:\Documents and Settings\Даша.8C16D62EEB58464\Рабочий стол\05[1]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6732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639720" y="171360"/>
            <a:ext cx="7924680" cy="243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71360" y="4928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9aaf2"/>
                </a:solidFill>
                <a:latin typeface="Constantia"/>
              </a:rPr>
              <a:t>Батраков.Д 7 «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414324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морские живые организмы так или иначе связаны друг с другом. В морях и океанах обитает множество разнообразных животных от простейших до млекопитающи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http://im3-tub.yandex.net/i?id=69855835-02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421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im0-tub.yandex.net/i?id=39275352-12"/>
          <p:cNvPicPr/>
          <p:nvPr/>
        </p:nvPicPr>
        <p:blipFill>
          <a:blip r:embed="rId3"/>
          <a:stretch/>
        </p:blipFill>
        <p:spPr>
          <a:xfrm>
            <a:off x="357120" y="314316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0"/>
            <a:ext cx="6286320" cy="235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морском дне куда не проникает солнечный свет, растения существовать не могут. Следовательно, там нет  животных, использующих растения в пищу.  Для глубоководных обитателей морского дна очень важным источником пищи служит тела мерт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" descr="H:\Documents and Settings\Даша.8C16D62EEB58464\Рабочий стол\02RWZLCAG1J1JPCA7OG2KDCA5YJIE7CACA39SGCAVLT7D4CAA5JBP6CAM408I8CA9V5641CAC6EPRPCAP7SYPCCAD22IW2CAGA7DPICA8ZTMAPCAUVX74NCA6KPSL8CAOD4T9NCAQ4WXNE.jpg"/>
          <p:cNvPicPr/>
          <p:nvPr/>
        </p:nvPicPr>
        <p:blipFill>
          <a:blip r:embed="rId2"/>
          <a:stretch/>
        </p:blipFill>
        <p:spPr>
          <a:xfrm>
            <a:off x="571680" y="1928880"/>
            <a:ext cx="757224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99680" y="214200"/>
            <a:ext cx="278604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дни морские животные могут переносить других на своем теле – так на морских черепахах и акулах путешествуют  рыбы-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прилипалы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. У которых в процессе эволюции спиной плавник преобразовался в присос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1" descr="H:\Documents and Settings\Даша.8C16D62EEB58464\Рабочий стол\photo[1].jpg"/>
          <p:cNvPicPr/>
          <p:nvPr/>
        </p:nvPicPr>
        <p:blipFill>
          <a:blip r:embed="rId2"/>
          <a:stretch/>
        </p:blipFill>
        <p:spPr>
          <a:xfrm>
            <a:off x="3286080" y="0"/>
            <a:ext cx="5857920" cy="292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Даша.8C16D62EEB58464\Рабочий стол\0FN3F5CAXB8HBXCAOXPBQ0CADOFFLDCATCP7XQCA2511GHCA4RZOXBCADX1ILPCA7LEI4ZCAMTQBLKCA562PZ7CA1MAHP2CA3XAR8CCAA5349WCAOJHPIKCABOOK58CAJUX8BUCABO37DW.jpg"/>
          <p:cNvPicPr/>
          <p:nvPr/>
        </p:nvPicPr>
        <p:blipFill>
          <a:blip r:embed="rId3"/>
          <a:stretch/>
        </p:blipFill>
        <p:spPr>
          <a:xfrm>
            <a:off x="3714840" y="2857680"/>
            <a:ext cx="5429160" cy="377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:\Documents and Settings\Даша.8C16D62EEB58464\Рабочий стол\4GKR2WCAYFEGJDCAG7EUPZCAM7IKLKCA5WGMBJCALLTMKRCA4XWYS7CAR3WVN7CAZJQJQJCAC6KVGACALIXDB6CAAU7LOFCAAIYUR2CA60361WCA7J3GKLCAS0F7CECA4FJS57CA8DGWK5.jpg"/>
          <p:cNvPicPr/>
          <p:nvPr/>
        </p:nvPicPr>
        <p:blipFill>
          <a:blip r:embed="rId4"/>
          <a:stretch/>
        </p:blipFill>
        <p:spPr>
          <a:xfrm>
            <a:off x="0" y="3214800"/>
            <a:ext cx="46432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500880" y="213840"/>
            <a:ext cx="2643120" cy="400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которые животные используют другие организмы в качестве убежищ. Рыбы-клоуны прячутся среди жгучих щупалец актинии. А рыбки- кривохвостки спасаются от врагов среди иголок морских еж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H:\Documents and Settings\Даша.8C16D62EEB58464\Рабочий стол\pom005[1].jpg"/>
          <p:cNvPicPr/>
          <p:nvPr/>
        </p:nvPicPr>
        <p:blipFill>
          <a:blip r:embed="rId2"/>
          <a:stretch/>
        </p:blipFill>
        <p:spPr>
          <a:xfrm>
            <a:off x="0" y="0"/>
            <a:ext cx="500076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H:\Documents and Settings\Даша.8C16D62EEB58464\Рабочий стол\a9[1].jpg"/>
          <p:cNvPicPr/>
          <p:nvPr/>
        </p:nvPicPr>
        <p:blipFill>
          <a:blip r:embed="rId3"/>
          <a:stretch/>
        </p:blipFill>
        <p:spPr>
          <a:xfrm>
            <a:off x="0" y="3571920"/>
            <a:ext cx="5000760" cy="32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:\Documents and Settings\Даша.8C16D62EEB58464\Рабочий стол\H06GQTCAZCO2XSCAY27GURCAJL21H3CAVG8I0YCAVU8Q5PCA5527D4CA999ZAACAXVAPO8CABEBI63CARA3VKSCANI2PXXCA5AEJEBCAJ5UQLZCAAX01J0CAW7CU29CAGKETL1CAGQ95FQ.jpg"/>
          <p:cNvPicPr/>
          <p:nvPr/>
        </p:nvPicPr>
        <p:blipFill>
          <a:blip r:embed="rId4"/>
          <a:stretch/>
        </p:blipFill>
        <p:spPr>
          <a:xfrm>
            <a:off x="5000760" y="3714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3274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звестны взаимовыгодные отношения между различными рыбами. Так, мелкие рыбки- чистильщики избавляют от кожных паразитов крупных хищных рыб. Они не  только собирают паразитов, но и  обрабатывают зубастый рот своих(пациентов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H:\Documents and Settings\Даша.8C16D62EEB58464\Рабочий стол\0033[1].jpg"/>
          <p:cNvPicPr/>
          <p:nvPr/>
        </p:nvPicPr>
        <p:blipFill>
          <a:blip r:embed="rId2"/>
          <a:stretch/>
        </p:blipFill>
        <p:spPr>
          <a:xfrm>
            <a:off x="2857680" y="0"/>
            <a:ext cx="6286320" cy="414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Даша.8C16D62EEB58464\Рабочий стол\POQ7LSCADMVPSGCAGS0MVPCAJ2UJ8WCAR1C9VZCASNWA7ECAGN05M7CAK26S07CA5U60FGCA8EZ89ECAIWM0C4CAO8KD47CA8BLHLBCAZSS5OKCAFG5AXMCA15KAW1CAUJDCXXCA4EVSI2.jpg"/>
          <p:cNvPicPr/>
          <p:nvPr/>
        </p:nvPicPr>
        <p:blipFill>
          <a:blip r:embed="rId3"/>
          <a:stretch/>
        </p:blipFill>
        <p:spPr>
          <a:xfrm>
            <a:off x="2857680" y="3357720"/>
            <a:ext cx="628632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:\Documents and Settings\Даша.8C16D62EEB58464\Рабочий стол\70015d5e73144e2667ee58c675f10dac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71680" y="0"/>
            <a:ext cx="782784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же известные нам рыбки-кривохвостки прячутся от врагов среди острых игл  морского еж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:\Documents and Settings\Даша.8C16D62EEB58464\Рабочий стол\post-32-11190259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2470320" cy="671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которые рыбы, кормясь, помогают кормится другим.  Как например рыбы-попугаи. Отламывают своими челюстями веточки коралла и глотают их. И к этому месту подплывают мелкие рыбки и достают  из обломков морских черв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43:22Z</dcterms:created>
  <dc:creator>Даша</dc:creator>
  <dc:description/>
  <dc:language>en-US</dc:language>
  <cp:lastModifiedBy>Жена_Мастера</cp:lastModifiedBy>
  <dcterms:modified xsi:type="dcterms:W3CDTF">2011-11-13T10:00:17Z</dcterms:modified>
  <cp:revision>9</cp:revision>
  <dc:subject/>
  <dc:title>Взаимосвязь морских животных</dc:title>
</cp:coreProperties>
</file>