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262-E3E0-490C-86E0-2B85AE82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DC2-AA81-4C43-B374-6B3DD823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0CA-FDD3-46DF-BE22-5C61287D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DEB-15CE-4FA8-BE48-96A95E4F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21A6-09E5-4F9A-A10B-CA8AE780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3668-BAA7-4A03-BD59-FD1D5C09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49EA-5564-4DFC-9F8F-6E08B5C5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3028-39B6-410A-B9CA-7567543C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801A-6C74-43C6-9FC5-7024E59C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82E0-7660-4071-A570-4E6449C8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B24E-80CE-41DC-B066-FCDB7C0C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B85-BF57-4D6D-923A-56CD0F2B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AEF0-B6BF-4BA2-841E-67DA1A4D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B96C-2DBD-49DC-8508-38126BA9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1D29-0565-4464-8A5C-EED84BF5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AF74-15AE-4912-AA5B-D886C2D0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C82C-300C-44AA-820F-634DBE0D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384-6741-4FB2-95CE-FD7FC4D0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233-5AD2-4D01-928E-86F62710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DB6-C328-4963-8695-A6B1B1A4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2F7-C0B6-45B4-A7FB-D4BE22FC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094-0D73-46C2-9542-1B338989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896-F684-4394-AC81-9145BCC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D36-C653-4152-9919-07906787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E81F-E14B-4001-8CAD-7A36580144D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3B6B-683C-4F07-B031-C4411633A83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71440" y="3714840"/>
            <a:ext cx="7072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7 «А»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пелова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14200" y="2858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14200" y="107172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 - один из самых распространенных видов рыб в Европе и Ази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итает окунь в водоемах разного типа: в реках, озерах, проточных прудах, водохранилищах и т. п. Крупные окуни живут на глубоких местах, мелкие по заводям, заливам среди зарослей водной растительности. Плодовитость до 200 тысяч икринок. Икра собрана в студенистые ленты, где лежит кучками по 3-5 штук. Из оплодотворенной икры спустя 10-15 дней появляются личинки, которые питаются мелкими животными, быстро растут и превращаются в мальков. Мелкие окуньки питаются различными водными насекомыми, их личинками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85840" y="21420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Рисунок 2" descr="окунь.jpeg"/>
          <p:cNvPicPr/>
          <p:nvPr/>
        </p:nvPicPr>
        <p:blipFill>
          <a:blip r:embed="rId1"/>
          <a:stretch/>
        </p:blipFill>
        <p:spPr>
          <a:xfrm>
            <a:off x="500040" y="1000080"/>
            <a:ext cx="790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1420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285840" y="10717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живет в водоемах смешанных и широколиственных лесов. Здесь она активна днем и вечером. В водоемах эта лягушка плавает с помощью длинных задних конечностей, пальцы которых снабжены плавательными перепонками. Передвижение по суше осуществляется с помощью прыжков, причем главную роль опять-таки играют задние конечности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357120" y="376560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- хищник, она питается подвижными насекомыми, которых добывает своеобразно: с помощью широкого языка, покрытого клейкой слизью. Как только мимо лягушки пролетает насекомое, она мгновенно выкидывает вперед язык, к которому и прилипает добыч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14200" y="214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Рисунок 2" descr="лягуха.jpg"/>
          <p:cNvPicPr/>
          <p:nvPr/>
        </p:nvPicPr>
        <p:blipFill>
          <a:blip r:embed="rId1"/>
          <a:stretch/>
        </p:blipFill>
        <p:spPr>
          <a:xfrm>
            <a:off x="258840" y="1000080"/>
            <a:ext cx="859932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44360" y="2142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71360" y="148428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ет большой водолюб в стоячих водоемах, заросших водными растениями. Тело этого жука хорошо обтекаемо, что облегчает ему передвижение в воде. Задние ноги плавательные, длинные, с лапками, на которых имеются волоски. Попеременно переставляя их, водолюб как бы «шагает» в вод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шит водолюб атмосферным воздухом: он то и дело поднимается к поверхности воды, приближая к ней голову. Однако из воды ее не высовывает, а «снабжается» воздухом при помощи усик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ая пища водолюба - растения: мягкие листочки и зеленые водоросли. Он также поедает трупы мелких животных; нападает и на ослабевших мальков рыб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14200" y="21420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Рисунок 2" descr="водолюб большой.jpg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858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Рисунок 4" descr="Плавунец окаймленный"/>
          <p:cNvPicPr/>
          <p:nvPr/>
        </p:nvPicPr>
        <p:blipFill>
          <a:blip r:embed="rId1"/>
          <a:stretch/>
        </p:blipFill>
        <p:spPr>
          <a:xfrm>
            <a:off x="6286680" y="928800"/>
            <a:ext cx="2644560" cy="2671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14200" y="1341360"/>
            <a:ext cx="6072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живет в прудах, небольших озерках, в тихих затонах и даже в канавах на торфяных болотах. Он хорошо приспособлен к жизни в воде -обтекаемое тело способствует плаванию. Плавунец дышит атмосферным воздухом, поэтому ему приходится периодически подниматься к поверхности воды и выставлять наружу конец брюшка. Свежий воздух поступает в трахеи через две последние пары брюшных дыхалец, а отработанный воздух выходит наружу через первые четыр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14200" y="285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Рисунок 2" descr="плавунец.jpg"/>
          <p:cNvPicPr/>
          <p:nvPr/>
        </p:nvPicPr>
        <p:blipFill>
          <a:blip r:embed="rId1"/>
          <a:stretch/>
        </p:blipFill>
        <p:spPr>
          <a:xfrm>
            <a:off x="357120" y="1096920"/>
            <a:ext cx="7929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15280" y="2142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85840" y="71424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ные жители отправляются на рыбалку, прихватывая с собой... мотыги. Они отыскивают на обсохшем дне холмики, напоминающие кротовины, и выкапывают из каждого глиняную капсулу с рыбой, сложившейся вдвое, подобно заколке для волос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ыба эта называется протоптерус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Protopter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и относится к подклассу двоякодышащих рыб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Dipno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 Помимо обычных для рыб жабр у представителей этой группы имеются еще и одно или два легких – видоизмененный плавательный пузырь, через оплетенные капиллярами стенки которого происходит газообмен. Атмосферный воздух для дыхания рыбы захватывают ртом, поднимаясь к поверхности. Двоякодышащие рыбы – очень древняя группа. Их остатки находят в отложениях девонского периода палеозойской эры. Живет эта рыба в реках с медленным течением, сильно заросших водной и надводной растительностью. Каждые 40 – 50 мин рогозуб всплывает и с шумом выдыхает воздух из легкого, издавая при этом характерный стонуще-хрюкающий звук, который разносится далеко по окрестностям. Сделав вдох, рыба снова опускается на дно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14200" y="2142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Рисунок 2" descr="двоякодышащая рыба.jpg"/>
          <p:cNvPicPr/>
          <p:nvPr/>
        </p:nvPicPr>
        <p:blipFill>
          <a:blip r:embed="rId1"/>
          <a:stretch/>
        </p:blipFill>
        <p:spPr>
          <a:xfrm>
            <a:off x="500040" y="749160"/>
            <a:ext cx="81439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5840" y="214200"/>
            <a:ext cx="84294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жноконская пиявка обитает в водоемах со стоячей или медленно текущей водой в равнинных реках, озерах прудах, иногда даже в лужах. Она встречается и в прибрежных зонах озер. Передвигается в водоеме разными способами может ползать и плавать. Эта пиявка - прожорливый хищник питается разнообразными водными животными .  Для человека и крупных животных ложноконские пиявки не опасны так как они не могут прокусить кожу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142920" y="214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Рисунок 4" descr="пиявка.jpeg"/>
          <p:cNvPicPr/>
          <p:nvPr/>
        </p:nvPicPr>
        <p:blipFill>
          <a:blip r:embed="rId1"/>
          <a:stretch/>
        </p:blipFill>
        <p:spPr>
          <a:xfrm>
            <a:off x="285840" y="1643040"/>
            <a:ext cx="88581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14200" y="214200"/>
            <a:ext cx="871560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копалый речной рак обитает в реках и озерах с чистой водой, богатой минеральными солями, на илистом дне. Здесь под корягами, камнями или корнями подводных растений он роет норки, в которых проводит светлое время суток. Он обычно активен в сумерках и ночью, но иногда бывает подвижным и днем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85840" y="2142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Рисунок 2" descr="рак.jpeg"/>
          <p:cNvPicPr/>
          <p:nvPr/>
        </p:nvPicPr>
        <p:blipFill>
          <a:blip r:embed="rId1"/>
          <a:stretch/>
        </p:blipFill>
        <p:spPr>
          <a:xfrm>
            <a:off x="857160" y="928800"/>
            <a:ext cx="757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паук-серебрянка"/>
          <p:cNvPicPr/>
          <p:nvPr/>
        </p:nvPicPr>
        <p:blipFill>
          <a:blip r:embed="rId1"/>
          <a:stretch/>
        </p:blipFill>
        <p:spPr>
          <a:xfrm>
            <a:off x="7358040" y="1143000"/>
            <a:ext cx="1500120" cy="2000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1800" y="558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14200" y="214200"/>
            <a:ext cx="83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285840" y="1000080"/>
            <a:ext cx="700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 - водяной паук. Он обитает в стоячих или медленно текущих водоемах, богатых растительностью. Для этого паука характерно то, что он устраивает своеобразное жилище под водой в виде паутинного колокола. Время от времени он поднимается к поверхности водоема, выставляет из воды кончик брюшка и обновляет запас воздуха, необходимого для дыхан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огружении в воду этот паук становится как бы серебряным, так как между волосками, покрывающими его брюшко, задерживается воздух, образуя воздушную прослойку. Она-то и обеспечивает ему возможность дышать под вод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14200" y="28584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Рисунок 2" descr="паук.jpg"/>
          <p:cNvPicPr/>
          <p:nvPr/>
        </p:nvPicPr>
        <p:blipFill>
          <a:blip r:embed="rId1"/>
          <a:stretch/>
        </p:blipFill>
        <p:spPr>
          <a:xfrm>
            <a:off x="642960" y="928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800" y="513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286000" y="750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5840" y="2142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Рисунок 6" descr="водяной скорпион"/>
          <p:cNvPicPr/>
          <p:nvPr/>
        </p:nvPicPr>
        <p:blipFill>
          <a:blip r:embed="rId1"/>
          <a:stretch/>
        </p:blipFill>
        <p:spPr>
          <a:xfrm>
            <a:off x="7143840" y="1071720"/>
            <a:ext cx="178596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57120" y="1000080"/>
            <a:ext cx="685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 живет на дне прудов, а также рек с медленным течением, заросших водной растительностью. Плавать этот клоп не умеет. Он либо сидит на растениях, либо ползает между ними. Водяной скорпион -хищник, он подкарауливает мелких животных. Время от времени водяной скорпион выставляет наружу довольно длинную трубочку, которой заканчивается его брюшко. Это - дыхательная трубочка. Она состоит из двух примыкающих друг к другу желобков и проводит атмосферный воздух под крылья, а оттуда в дыхальца брюшк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14200" y="214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Рисунок 2" descr="скорпион.jpg"/>
          <p:cNvPicPr/>
          <p:nvPr/>
        </p:nvPicPr>
        <p:blipFill>
          <a:blip r:embed="rId1"/>
          <a:stretch/>
        </p:blipFill>
        <p:spPr>
          <a:xfrm>
            <a:off x="857160" y="860400"/>
            <a:ext cx="75056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04T09:20:42Z</dcterms:modified>
  <cp:revision>11</cp:revision>
  <dc:subject/>
  <dc:title>Презентация «Животные пресных водоемов»</dc:title>
</cp:coreProperties>
</file>