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0692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7296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4124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0692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7296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41240" y="282600"/>
            <a:ext cx="860760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8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295280" indent="-215640">
              <a:lnSpc>
                <a:spcPct val="98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727280" indent="-216000">
              <a:lnSpc>
                <a:spcPct val="9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158920" indent="-215640">
              <a:lnSpc>
                <a:spcPct val="98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158920" indent="-215640">
              <a:lnSpc>
                <a:spcPct val="9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158920" indent="-215640">
              <a:lnSpc>
                <a:spcPct val="9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" name="AutoShape 3"/>
          <p:cNvSpPr/>
          <p:nvPr/>
        </p:nvSpPr>
        <p:spPr>
          <a:xfrm>
            <a:off x="723960" y="7077240"/>
            <a:ext cx="93549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4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19280" y="1042920"/>
            <a:ext cx="8609040" cy="31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7200" spc="-1" strike="noStrike">
                <a:solidFill>
                  <a:srgbClr val="ff9966"/>
                </a:solidFill>
                <a:latin typeface="Arial"/>
              </a:rPr>
              <a:t>Животные тропических лесов</a:t>
            </a:r>
            <a:endParaRPr b="1" i="1" lang="en-US" sz="72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60360" y="2008080"/>
            <a:ext cx="915336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ccccc"/>
                </a:solidFill>
                <a:latin typeface="Times New Roman"/>
              </a:rPr>
              <a:t>                                    </a:t>
            </a:r>
            <a:r>
              <a:rPr b="0" lang="en-GB" sz="3200" spc="-1" strike="noStrike">
                <a:solidFill>
                  <a:srgbClr val="cccccc"/>
                </a:solidFill>
                <a:latin typeface="Times New Roman"/>
              </a:rPr>
              <a:t>Подготовил Сухарев Алексей </a:t>
            </a:r>
            <a:r>
              <a:rPr b="0" lang="ru-RU" sz="3200" spc="-1" strike="noStrike">
                <a:solidFill>
                  <a:srgbClr val="cccccc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cccccc"/>
                </a:solidFill>
                <a:latin typeface="Times New Roman"/>
              </a:rPr>
              <a:t>7А класс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651960" y="3419280"/>
            <a:ext cx="8772840" cy="33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Тропические леса характеризуются пышной растительностью; под деревьями с высокими стволами, не смотря на то, что их кроны пропускают мало света, растет густой подлесок. В нем царит высокая влажность - осадки здесь часты и благоприятствуют развитию растений любого типа. Такая среда почти идеальна для поддержания жизни бесчисленных животных, которые в изобилии находят там пищу. 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358920" y="684360"/>
            <a:ext cx="3060720" cy="2160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3600360" y="250920"/>
            <a:ext cx="3240000" cy="2139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3"/>
          <a:stretch/>
        </p:blipFill>
        <p:spPr>
          <a:xfrm>
            <a:off x="7034040" y="1081080"/>
            <a:ext cx="3060720" cy="21607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"/>
          <p:cNvPicPr/>
          <p:nvPr/>
        </p:nvPicPr>
        <p:blipFill>
          <a:blip r:embed="rId1"/>
          <a:stretch/>
        </p:blipFill>
        <p:spPr>
          <a:xfrm>
            <a:off x="792000" y="539640"/>
            <a:ext cx="3240360" cy="25210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Ягуар      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3280" y="3779640"/>
            <a:ext cx="87724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Животное, похожее на леопарда, но более крупное;. Охотятся ягуары в одиночку и в основном на земле, хотя хорошо ползают по деревьям и плавают. Поймав добычу, хищник обычно прячет ее где-нибудь в потайном месте и потом съедает по частям.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5904000" y="1116000"/>
            <a:ext cx="4059000" cy="27003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-58680" y="3851280"/>
            <a:ext cx="10139400" cy="21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Анаконда — крупнейшая змея из ныне живущих. Её средняя длина — 5-6 метров, а нередко встречаются экземпляры по 8-9 мет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Анаконда не ядовита. Самки намного крупнее и сильнее самц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90160"/>
            <a:ext cx="8609040" cy="5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Анаконда                                           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1944720" y="1187280"/>
            <a:ext cx="2408040" cy="2160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4824360" y="466560"/>
            <a:ext cx="4861080" cy="27910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5940360" y="0"/>
            <a:ext cx="4140360" cy="3060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7740720" y="4140360"/>
            <a:ext cx="2340000" cy="28796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Паук-птицеед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02920" y="2846520"/>
            <a:ext cx="7777080" cy="38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Пауки-птицееды  — семейство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ауков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из подотря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а мигаломорфных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(Mygalomorphae). Взрослые особи характеризуются крупными размерами,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иногда превышающими 20 см в размахе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ног. Широко распространено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использование птицеедов в качестве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экзотических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омашних животных</a:t>
            </a:r>
            <a:r>
              <a:rPr b="1" i="1" lang="en-GB" sz="3200" spc="-1" strike="noStrike">
                <a:solidFill>
                  <a:srgbClr val="cccc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Летучий дракон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60360" y="3254400"/>
            <a:ext cx="8772480" cy="33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Летучие драконы —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ящерицы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, взрослые особи которых достигают в длину 40 см.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Характерная особенность представителей этого рода — расположенные по бокам тела широкие кожные складки (мембраны), поддерживаемые ложными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ебрами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и способные расправляться в виде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рыльев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. Благодаря им летучие драконы могут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ланировать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на расстояние свыше двадцати метров.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647640" y="46656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2"/>
          <a:stretch/>
        </p:blipFill>
        <p:spPr>
          <a:xfrm>
            <a:off x="6769080" y="1189080"/>
            <a:ext cx="2340000" cy="17222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1240" y="32652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Окапи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360360" y="4284720"/>
            <a:ext cx="8772480" cy="25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Это родственники жирафа, его высота немного меньше двух метров, а масса около 250 килограммов. Окапи чрезвычайно робкие животные и распространены в очень узкой географической зоне, поэтому изучены недостаточно. Окапи живут одиночно, и только матери подолгу не разлучаются со своими детенышами</a:t>
            </a:r>
            <a:r>
              <a:rPr b="1" i="1" lang="en-GB" sz="2800" spc="-1" strike="noStrike">
                <a:solidFill>
                  <a:srgbClr val="cccccc"/>
                </a:solidFill>
                <a:latin typeface="Times New Roman"/>
              </a:rPr>
              <a:t>.</a:t>
            </a:r>
            <a:r>
              <a:rPr b="1" i="1" lang="en-GB" sz="1200" spc="-1" strike="noStrike">
                <a:solidFill>
                  <a:srgbClr val="cccc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3790800" y="179280"/>
            <a:ext cx="4705560" cy="39610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680" y="17892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                                </a:t>
            </a: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Крокодил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766800" y="3042720"/>
            <a:ext cx="877248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рокодилы селятся по берегам рек и озер в областях с теплым и жарким климатом. Крокодилам гораздо уютнее и спокойнее в воде, чем на суше. Плавают они с помощью лап и хвоста; под водой крупные особи могут провести около часа. В самые жаркие часы дня крокодилы лежат на суше, широко открыв пасть: из-за отсутствия потовых желез они могут избавиться от излишка тепла только таким способом, как и собаки, высовывающие язык в жару.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7559640" y="192240"/>
            <a:ext cx="2521080" cy="2689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0" y="179280"/>
            <a:ext cx="4437000" cy="2700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"/>
          <p:cNvPicPr/>
          <p:nvPr/>
        </p:nvPicPr>
        <p:blipFill>
          <a:blip r:embed="rId1"/>
          <a:stretch/>
        </p:blipFill>
        <p:spPr>
          <a:xfrm>
            <a:off x="4140360" y="0"/>
            <a:ext cx="2689200" cy="25081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Шимпанзе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1680" y="2507760"/>
            <a:ext cx="87724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Благодаря своей понятливости и обучаемости это самая известная из всех обезьян. Хотя шимпанзе отлично лазают, они много времени проводят на земле и даже путешествуют пешком. Но спят они все же на деревьях, где чувствуют себя в большей безопасности. Это одно из немногих животных, пользующееся различными инструментами: шимпанзе засовывает в термитник сломанную ветку, а потом слизывает с неё насекомых. Эти обезьяны практически всеядны. Сообщества, живущие в различных регионах, часто и питаются по-разному</a:t>
            </a:r>
            <a:r>
              <a:rPr b="1" i="1" lang="en-GB" sz="2800" spc="-1" strike="noStrike">
                <a:solidFill>
                  <a:srgbClr val="cccccc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Жена_Мастера</cp:lastModifiedBy>
  <dcterms:modified xsi:type="dcterms:W3CDTF">2011-11-13T10:35:06Z</dcterms:modified>
  <cp:revision>5</cp:revision>
  <dc:subject/>
  <dc:title>Животные тропических лесов</dc:title>
</cp:coreProperties>
</file>