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7531-A6E5-4A3C-AB01-51A24BF0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F25-3D45-45C5-A598-63EFA567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5CE-2D40-499F-92E0-2454BAFE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56F-0A3A-4E89-8055-8BA2CCAA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3A5E-E682-4C48-B720-36B68D2C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C03E-6F11-4435-9947-8FD53D63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CD1F-A40F-4889-B750-98C2353E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48A8-57AA-4156-891D-ADD357C7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DD6E-C12A-4493-8730-96E95252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8846-62ED-430D-9111-DA6E1DD9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8CD1-C5C9-474B-BC32-5C8E82E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CDE-C475-4BCC-9418-635FD545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2862-3B30-4518-980A-5E08C411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6B66-38F1-4750-AD2D-482F5579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C6AC-37E5-4115-BBC8-19DBC587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83D1-AE17-47AC-AEB1-4B0B61B1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B6A2-94D3-41F0-A3A1-63C38939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B11-9EE4-48BE-A072-98140BE0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41E-FA83-433E-A047-F1F4903F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79A-57ED-4765-90F2-11072728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F07-20AF-4495-9CB0-B490BDBC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724-834F-4283-86C0-B7702FA2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E98-3726-4B77-A1A9-C505B9B3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30F-5B6B-4974-819D-85C96ACA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6FEA-0B0F-49F0-B422-9899B83AF4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AE6E-7972-4EEF-92AD-C07D909E9C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0;&#1097;&#1085;&#1099;&#1077;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50;&#1088;&#1072;&#1089;&#1085;&#1072;&#1103;_&#1082;&#1085;&#1080;&#1075;&#1072;_&#1056;&#1086;&#1089;&#1089;&#1080;&#1080;" TargetMode="External"/><Relationship Id="rId4" Type="http://schemas.openxmlformats.org/officeDocument/2006/relationships/hyperlink" Target="http://ru.wikipedia.org/wiki/&#1064;&#1072;&#1073;&#1083;&#1086;&#1085;:&#1044;&#1086;&#1084;&#1072;&#1096;&#1085;&#1080;&#1077;_&#1078;&#1080;&#1074;&#1086;&#1090;&#1085;&#1099;&#1077;" TargetMode="External"/><Relationship Id="rId5" Type="http://schemas.openxmlformats.org/officeDocument/2006/relationships/hyperlink" Target="http://ru.wikipedia.org/wiki/&#1054;&#1073;&#1089;&#1091;&#1078;&#1076;&#1077;&#1085;&#1080;&#1077;_&#1096;&#1072;&#1073;&#1083;&#1086;&#1085;&#1072;:&#1044;&#1086;&#1084;&#1072;&#1096;&#1085;&#1080;&#1077;_&#1078;&#1080;&#1074;&#1086;&#1090;&#1085;&#1099;&#1077;" TargetMode="External"/><Relationship Id="rId6" Type="http://schemas.openxmlformats.org/officeDocument/2006/relationships/hyperlink" Target="http://ru.wikipedia.org/w/index.php?title=&#1064;&#1072;&#1073;&#1083;&#1086;&#1085;:&#1044;&#1086;&#1084;&#1072;&#1096;&#1085;&#1080;&#1077;_&#1078;&#1080;&#1074;&#1086;&#1090;&#1085;&#1099;&#1077;&amp;action=edit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4;&#1084;&#1080;&#1085;&#1075;" TargetMode="External"/><Relationship Id="rId2" Type="http://schemas.openxmlformats.org/officeDocument/2006/relationships/hyperlink" Target="http://ru.wikipedia.org/wiki/&#1043;&#1086;&#1088;&#1085;&#1086;&#1089;&#1090;&#1072;&#1081;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50920" y="2060280"/>
            <a:ext cx="5834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Животные</a:t>
            </a:r>
            <a:r>
              <a:rPr b="0" lang="ru-RU" sz="4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тундры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ыполнила ученица 7 «А» кла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У СОШ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№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рисова Кс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87200" y="-720"/>
            <a:ext cx="79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23624"/>
                </a:solidFill>
                <a:latin typeface="Tahoma"/>
              </a:rPr>
              <a:t>В северных тундрах обитает особый вид белой куропатки</a:t>
            </a:r>
            <a:r>
              <a:rPr b="0" lang="en-US" sz="1800" spc="-1" strike="noStrike">
                <a:solidFill>
                  <a:srgbClr val="e2362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1622520"/>
            <a:ext cx="20509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Окраска оперения в зимний период белая, за исключением черных рулевых перьев (на их концах — белые вершинные полоски), черного клюва и темных-когтей. Стержни первостепенных маховых перьев также темные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38268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Тундряная куропатка ведет преимущественно наземный образ жизни и хорошо передвигается как по твердому грунту, так и по рыхлому снег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5691240"/>
            <a:ext cx="583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608360" cy="4680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020000" y="1700280"/>
            <a:ext cx="2124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Питание тундряных куропаток  весьма разнообразно. В бесснежный период основу рациона составляют семена различных растений, цветы и листья голубики, черники, андромеды, луковички гречихи живородящей, ягоды, листья и стебли вороники, ягоды черники, брусники и толокнянки, листья дриады и различных видов ив, коробочки мх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4392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На севере Евразии и Американского континента простираются просторы тунд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Пожалуй, не найти на Земле более суровых мест:зимой,когда дуют пронзительные ветры и метет колючая пурга, температура в тундре может опускаться до -40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и даже ниже, а летом не поднимается выше +10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456000" cy="2663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3649680" cy="21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490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Растительный покров тундры-это разнообразные лишайники, олений корм-ягель,мхи,осоки,низкорослые кустарнички и кустарники, карликовые березки, полярные и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264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Тундра полна жизни, животный мир этой природной зоны богат и разнообразен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49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1600" y="-2763720"/>
            <a:ext cx="777240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6f097"/>
                </a:solidFill>
                <a:latin typeface="Blackadder ITC"/>
              </a:rPr>
              <a:t>В тундровой зоне обитает достаточно много млекопитающих</a:t>
            </a:r>
            <a:r>
              <a:rPr b="1" i="1" lang="en-US" sz="1600" spc="-1" strike="noStrike">
                <a:solidFill>
                  <a:srgbClr val="36f097"/>
                </a:solidFill>
                <a:latin typeface="Blackadder ITC"/>
              </a:rPr>
              <a:t>: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4103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23624"/>
                </a:solidFill>
                <a:latin typeface="Tahoma"/>
              </a:rPr>
              <a:t>Белый медведь — самый крупный наземный представитель млекопитающих отряда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хищных</a:t>
            </a:r>
            <a:r>
              <a:rPr b="0" lang="en-US" sz="1600" spc="-1" strike="noStrike" u="sng">
                <a:solidFill>
                  <a:srgbClr val="e23624"/>
                </a:solidFill>
                <a:uFillTx/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56000" y="765000"/>
            <a:ext cx="4537080" cy="2592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2573280"/>
            <a:ext cx="435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8000" y="3138480"/>
            <a:ext cx="8748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Garamond"/>
              </a:rPr>
              <a:t>Несмотря на кажущуюся неповоротливость, белые медведи даже на суше быстры и ловки, а в воде легко плавают и ныряют. Очень густая, плотная шерсть защищает тело медведя от холода и намокания в ледяной воде. Важную приспособительную роль играет мощный слой подкожного жира до 10 см толщиной. Белая окраска способствует маскировке хищника. Хорошо развиты обоняние, слух и зрение — свою добычу медведь может увидеть за несколько километ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3280" y="5049000"/>
            <a:ext cx="39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Garamond"/>
              </a:rPr>
              <a:t>При случае подбирает падаль, дохлую рыбу, яйца и птенцов, может есть траву и морские водоросли, в обжитых местах питается на помойк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3421080" cy="22766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24000" y="1658880"/>
            <a:ext cx="36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Обитает на дрейфующих морских льдах, где охотится на свою основную добычу: кольчатую нерпу, морского зайца, моржа и др. морских животны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f097"/>
                </a:solidFill>
                <a:latin typeface="Tahoma"/>
              </a:rPr>
              <a:t>По бескрайним просторам тундры перемещается стада северных оленей в поисках лишайникового корм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Северный олень — мигрирующий вид. Широкие копыта позволяют перемещаться по рыхлому снегу и раскапывать его в поисках пищи. Жажду этот олень 9 месяцев в году утоляют снегом. Люди одомашнили северных оленей, изолировав часть стада диких животных. Домашние северные олени живут на полувольном выпасе, а от диких животных отличаются тем, что привыкли к людям и в случае опасности не разбегаются в стороны, а собираются вместе, надеясь на защиту людей. От оленей люди получают молоко, мясо, шерсть, рога, кости, от человека оленям нужна только сол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273708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5" name=""/>
          <p:cNvGraphicFramePr/>
          <p:nvPr/>
        </p:nvGraphicFramePr>
        <p:xfrm>
          <a:off x="0" y="6165720"/>
          <a:ext cx="9144000" cy="927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8080"/>
                          </a:solidFill>
                          <a:latin typeface="Edwardian Script ITC"/>
                        </a:rPr>
                        <a:t>Северный олень</a:t>
                      </a:r>
                      <a:r>
                        <a:rPr b="0" i="1" lang="en-US" sz="1800" spc="-1" strike="noStrike">
                          <a:solidFill>
                            <a:srgbClr val="008080"/>
                          </a:solidFill>
                          <a:latin typeface="Edwardian Script ITC"/>
                        </a:rPr>
                        <a:t> на территории России находится на грани исчезновения и занесён в 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Edwardian Script ITC"/>
                          <a:hlinkClick r:id="rId3"/>
                        </a:rPr>
                        <a:t>Красную книгу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0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0" y="1508040"/>
          <a:ext cx="182520" cy="4484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8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показать]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о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72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В тундре обитают мелкие грызуны-лемминги, на которых охотятся песцы и совы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270320"/>
            <a:ext cx="770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6f097"/>
                </a:solidFill>
                <a:latin typeface="Tahoma"/>
              </a:rPr>
              <a:t>Песец</a:t>
            </a:r>
            <a:r>
              <a:rPr b="0" i="1" lang="en-US" sz="1400" spc="-1" strike="noStrike">
                <a:solidFill>
                  <a:srgbClr val="36f097"/>
                </a:solidFill>
                <a:latin typeface="Tahoma"/>
              </a:rPr>
              <a:t>.    - промысловый пушной зверь, которого иногда называют полярной лисицей.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 Распространены песцы по всей тундре: к северу — до побережья океана и к югу - до северной границы леса. Летом песцы питаются в основном леммингами и полевками, а также поедают яйца, птенцов и даже взрослых птиц, в частности белых куропаток, зиме песцы жиреют, что в условиях холодной и долгой зимы является полезным приспособлением, так как зимой кормов становится меньше, голод заставляет песцов пожирать буквально все мало-мальски съедобное - водоросли, падаль, экскременты людей и животных. Примерно с ноября начинаются массовые перекочевки песцов в места, более благоприятные в отношении кормов. К весне возвращаются в тундру, роют себе новые норы или ремонтируют старые, а затем приступают к размножению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489744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00"/>
                </a:solidFill>
                <a:latin typeface="Tahoma"/>
              </a:rPr>
              <a:t>Коротким полярным летом тундра оживает. В это время сюда прилетает  огромное количество птиц.На побережье материков и на скалистых арктических островах птицы разных видов, питающиеся морской рыбой, образуют огромные совместные населения-птичьи базары. Здесь гнездятся кайры и чистики, гагары и чай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66920" cy="43196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462560" y="2533680"/>
            <a:ext cx="468144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71640" y="1155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23624"/>
                </a:solidFill>
                <a:latin typeface="Garamond"/>
              </a:rPr>
              <a:t>Белая</a:t>
            </a:r>
            <a:r>
              <a:rPr b="0" i="1" lang="en-US" sz="1800" spc="-1" strike="noStrike">
                <a:solidFill>
                  <a:srgbClr val="e23624"/>
                </a:solidFill>
                <a:latin typeface="Garamond"/>
              </a:rPr>
              <a:t> сова — самая крупная птица из отряда совообразных в тундре. Голова круглая, радужина глаз ярко-жёлт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954000"/>
            <a:ext cx="59036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Полярная сова — активный хищник. Основу её питания составляют мышевидные грызуны, в первую очередь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лемминги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. За год одна сова съедает более 1600 леммингов. Ловит также зайцев, пищух, мелких хищников (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горностай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), птиц (белых куропаток, гусей, уток), не пренебрегает рыбой и падалью. Сова не охотится вблизи гнезда, поэтому птицы охотно селятся поблизости от сов, которые защищают свою территорию от других хищников. Охотится белая сова, главным образом, сидя на земле, предпочтительно на возвышении, и бросаясь на приближающуюся добыч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5181120"/>
            <a:ext cx="52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6f097"/>
                </a:solidFill>
                <a:latin typeface="Garamond"/>
              </a:rPr>
              <a:t>Брачное чтиво в марте — апреле, сопровождается сложными ухаживаниями. В некоторых районах белые совы сохраняют постоянные пары на протяжении многих лет; в других пара остаётся вместе только на время одного гнездового сезона</a:t>
            </a:r>
            <a:r>
              <a:rPr b="0" lang="en-US" sz="1600" spc="-1" strike="noStrike">
                <a:solidFill>
                  <a:srgbClr val="36f097"/>
                </a:solidFill>
                <a:latin typeface="Garamond"/>
              </a:rPr>
              <a:t>.</a:t>
            </a:r>
            <a:r>
              <a:rPr b="0" lang="en-US" sz="1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3103560" cy="37562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580000" y="3860640"/>
            <a:ext cx="3564000" cy="299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5:48:55Z</dcterms:created>
  <dc:creator>Максим</dc:creator>
  <dc:description/>
  <dc:language>en-US</dc:language>
  <cp:lastModifiedBy>Максим</cp:lastModifiedBy>
  <dcterms:modified xsi:type="dcterms:W3CDTF">2010-12-08T19:44:59Z</dcterms:modified>
  <cp:revision>2</cp:revision>
  <dc:subject/>
  <dc:title>Животные тундры.</dc:title>
</cp:coreProperties>
</file>