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5F7-53FD-4AA4-BC2C-1B35C460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7D8-3EFE-4589-BED5-50D5FACB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182-E92B-4759-BE21-C0979225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D45-E31E-40C6-AFCD-C169E0F4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2679-6DB7-466A-B127-90BF1AB5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5EA1-A6C6-422C-965D-063B3630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7081-7B86-4F56-ADE6-CC71AF7B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F3F1-9F7E-445A-8752-75F71230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C5B6-A95B-45B9-88D0-2C110D74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4D6C-3735-4B9E-956B-EB007523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3E4D-430F-4110-910D-F922FA4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1DF-1E7A-4C7A-9496-0E0F1E0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11F8-2843-4F2B-B360-72777BA2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B223-0735-46AD-BAD9-D1482787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5FA0-E77C-456C-B13F-A8FB6B9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F78D-C287-490C-80E8-4D2CB96F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193D-E2B9-4F43-8CFA-231C1AF7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FC8-E599-4E12-94B0-C12BA458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C04-4D55-42D8-85A8-73F95EF0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8CC-6998-435C-A121-1BD1B38C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0C4-6EE5-4FD1-83BD-FF9A3B4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38E-E153-45E2-99D9-49D6CCA9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B45-213A-431B-A8BC-AF3222A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FF2-73A4-4D3B-9C66-562089BC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9AE-8D0F-41A5-B952-BFCB1C1CF3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0456-97D8-48FA-B357-0951E841B0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лияние температуры среды обитания на жизнь животны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48320" y="54100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ученик 8 класс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лоднокровные животные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не имеют постоянной температуры тела)</a:t>
            </a:r>
            <a:br>
              <a:rPr sz="16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пособы реагирования на температуру среды и соответственно регулирования своей температуры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еться на солнце, чтобы оно освещало и нагревало как можно большую поверхность тела. Этим способом пользуется-кузнечики, саранч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смыкаюшиес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Кузнечик2"/>
          <p:cNvPicPr/>
          <p:nvPr/>
        </p:nvPicPr>
        <p:blipFill>
          <a:blip r:embed="rId1"/>
          <a:stretch/>
        </p:blipFill>
        <p:spPr>
          <a:xfrm>
            <a:off x="457200" y="17524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рулоголов"/>
          <p:cNvPicPr/>
          <p:nvPr/>
        </p:nvPicPr>
        <p:blipFill>
          <a:blip r:embed="rId2"/>
          <a:stretch/>
        </p:blipFill>
        <p:spPr>
          <a:xfrm>
            <a:off x="5334120" y="4314960"/>
            <a:ext cx="291456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ящерица1"/>
          <p:cNvPicPr/>
          <p:nvPr/>
        </p:nvPicPr>
        <p:blipFill>
          <a:blip r:embed="rId3"/>
          <a:stretch/>
        </p:blipFill>
        <p:spPr>
          <a:xfrm>
            <a:off x="457200" y="4343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 те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темная окраска способствует поглощению внешнего тепла, а по мере усиления солнечного тепла она бледнеет. Это  используют пустынные игуаны. Черепахи выставляют из -под панциря свои темные лапы, улавливая теп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5" descr="игуана2"/>
          <p:cNvPicPr/>
          <p:nvPr/>
        </p:nvPicPr>
        <p:blipFill>
          <a:blip r:embed="rId1"/>
          <a:stretch/>
        </p:blipFill>
        <p:spPr>
          <a:xfrm>
            <a:off x="4724280" y="32767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черепаха1"/>
          <p:cNvPicPr/>
          <p:nvPr/>
        </p:nvPicPr>
        <p:blipFill>
          <a:blip r:embed="rId2"/>
          <a:stretch/>
        </p:blipFill>
        <p:spPr>
          <a:xfrm>
            <a:off x="533520" y="34290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е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шечная работа способствует разогреванию тела. При  понижении температуры увеличивается двигательная актив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Мокрица1"/>
          <p:cNvPicPr/>
          <p:nvPr/>
        </p:nvPicPr>
        <p:blipFill>
          <a:blip r:embed="rId1"/>
          <a:stretch/>
        </p:blipFill>
        <p:spPr>
          <a:xfrm>
            <a:off x="4800600" y="3505320"/>
            <a:ext cx="404820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абочка бражница1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цепенение (реакция  на изменения температуры среды  водных  животных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аси закапываются            Осетры лежат неподвиж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л, температура их тела          близ дна, их тело покры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скается.                                  вается толстым сло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изи,которая изолиру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изких темпера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карась2"/>
          <p:cNvPicPr/>
          <p:nvPr/>
        </p:nvPicPr>
        <p:blipFill>
          <a:blip r:embed="rId1"/>
          <a:stretch/>
        </p:blipFill>
        <p:spPr>
          <a:xfrm>
            <a:off x="533520" y="1219320"/>
            <a:ext cx="35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сетра"/>
          <p:cNvPicPr/>
          <p:nvPr/>
        </p:nvPicPr>
        <p:blipFill>
          <a:blip r:embed="rId2"/>
          <a:stretch/>
        </p:blipFill>
        <p:spPr>
          <a:xfrm>
            <a:off x="4648320" y="1219320"/>
            <a:ext cx="373356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плокровные животные</a:t>
            </a:r>
            <a:br>
              <a:rPr sz="40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имеют постоянную температуру тела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ы приспособления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рганизма к изменениям  температуры среды обит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стота волосяного покрова или перьевого пок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ичие подкожного ж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та дыхательных дви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7680" y="-669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нь теплый покров имеют: овцебык,северный олень,  белый медведь,  королевский пингв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0600" y="533160"/>
            <a:ext cx="40384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риближении зимы количество пуховых перьев на теле чижа увеличивается примерно на одну тысяч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чиж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ингвин королевский"/>
          <p:cNvPicPr/>
          <p:nvPr/>
        </p:nvPicPr>
        <p:blipFill>
          <a:blip r:embed="rId2"/>
          <a:stretch/>
        </p:blipFill>
        <p:spPr>
          <a:xfrm>
            <a:off x="152280" y="3581280"/>
            <a:ext cx="28958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Северный олень"/>
          <p:cNvPicPr/>
          <p:nvPr/>
        </p:nvPicPr>
        <p:blipFill>
          <a:blip r:embed="rId3"/>
          <a:stretch/>
        </p:blipFill>
        <p:spPr>
          <a:xfrm>
            <a:off x="3276720" y="3581280"/>
            <a:ext cx="250488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белый медведь"/>
          <p:cNvPicPr/>
          <p:nvPr/>
        </p:nvPicPr>
        <p:blipFill>
          <a:blip r:embed="rId4"/>
          <a:stretch/>
        </p:blipFill>
        <p:spPr>
          <a:xfrm>
            <a:off x="6248520" y="35812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ведение животных при температурных изменения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3152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езонном понижении температуры теплокровные животные впадают в спяч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Медведь в спячке1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ветреную погоду  пингвины сбиваются в плотные группы и внутри их укрывают детенышей. Такой способ поведения позволяет удерживать  внутри группы более высокий уровень температуры и спасать себя и свое потомство от ледяного в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penguins_03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4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