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A220-FF6F-4839-891E-FCB7CFC0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D98D-9351-4FBF-BDDA-CD173CF4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03BA-174F-4886-9173-E56AA142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15D-3ACA-4026-A95F-DE5E15AA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9B48-A4B3-494E-86B3-CC830E32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CE79-3EA6-41D0-8B43-42C305F0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4817-4036-4459-BB59-D41CB2AA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18C0-8F25-4C18-89F8-E3490575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30BC-ACE0-42B3-B004-DCAF3AE7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5E99-B75F-49DF-91DE-9D085D11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0935-D5B8-44F4-BA6C-7752E932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9AE-B054-4187-B3F0-15011377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098D-43B0-4019-85C7-B232F60D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5520-2BD6-4E06-A1CB-081ED85A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1328-D16E-4C3A-AACC-8D1A6E68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50DA-C44E-4411-AE17-2E629DDC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FE11-81EE-427F-B088-492FA4C9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F1E5-32B5-48F8-B6D3-4EA179F7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D2D7-BE03-43C6-8934-AA2D1DC5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6738-0CE8-4F11-96C3-EF064065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14F5-82FB-4822-AC60-BA8514D3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18E0-3C02-4227-9160-E897020F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F489-AF79-4732-9F5F-A1E2A932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1D00-6BC1-4D18-91C9-A474EA10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E9F4-581E-4CAC-B119-DFE2624D54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C608-D4A6-4F8C-AA67-ED6FB6D8B37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Влияние температуры среды обитания на жизнь животных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48320" y="5410080"/>
            <a:ext cx="4419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: ученик 8 класса «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не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ь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Холоднокровные животные </a:t>
            </a:r>
            <a:br>
              <a:rPr sz="16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(не имеют постоянной температуры тела)</a:t>
            </a:r>
            <a:br>
              <a:rPr sz="16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Способы реагирования на температуру среды и соответственно регулирования своей температуры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еться на солнце, чтобы оно освещало и нагревало как можно большую поверхность тела. Этим способом пользуется-кузнечики, саранч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смыкаюшиеся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5" descr="Кузнечик2"/>
          <p:cNvPicPr/>
          <p:nvPr/>
        </p:nvPicPr>
        <p:blipFill>
          <a:blip r:embed="rId1"/>
          <a:stretch/>
        </p:blipFill>
        <p:spPr>
          <a:xfrm>
            <a:off x="457200" y="1752480"/>
            <a:ext cx="3048120" cy="2210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крулоголов"/>
          <p:cNvPicPr/>
          <p:nvPr/>
        </p:nvPicPr>
        <p:blipFill>
          <a:blip r:embed="rId2"/>
          <a:stretch/>
        </p:blipFill>
        <p:spPr>
          <a:xfrm>
            <a:off x="5334120" y="4314960"/>
            <a:ext cx="2914560" cy="25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ящерица1"/>
          <p:cNvPicPr/>
          <p:nvPr/>
        </p:nvPicPr>
        <p:blipFill>
          <a:blip r:embed="rId3"/>
          <a:stretch/>
        </p:blipFill>
        <p:spPr>
          <a:xfrm>
            <a:off x="457200" y="434340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5334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52280"/>
            <a:ext cx="8610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ение окраски тел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тром темная окраска способствует поглощению внешнего тепла, а по мере усиления солнечного тепла она бледнеет. Это  используют пустынные игуаны. Черепахи выставляют из -под панциря свои темные лапы, улавливая теп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15" descr="игуана2"/>
          <p:cNvPicPr/>
          <p:nvPr/>
        </p:nvPicPr>
        <p:blipFill>
          <a:blip r:embed="rId1"/>
          <a:stretch/>
        </p:blipFill>
        <p:spPr>
          <a:xfrm>
            <a:off x="4724280" y="3276720"/>
            <a:ext cx="3886200" cy="327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черепаха1"/>
          <p:cNvPicPr/>
          <p:nvPr/>
        </p:nvPicPr>
        <p:blipFill>
          <a:blip r:embed="rId2"/>
          <a:stretch/>
        </p:blipFill>
        <p:spPr>
          <a:xfrm>
            <a:off x="533520" y="3429000"/>
            <a:ext cx="342900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менение двигательной активност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ышечная работа способствует разогреванию тела. При  понижении температуры увеличивается двигательная актив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Мокрица1"/>
          <p:cNvPicPr/>
          <p:nvPr/>
        </p:nvPicPr>
        <p:blipFill>
          <a:blip r:embed="rId1"/>
          <a:stretch/>
        </p:blipFill>
        <p:spPr>
          <a:xfrm>
            <a:off x="4800600" y="3505320"/>
            <a:ext cx="4048200" cy="2452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бабочка бражница1"/>
          <p:cNvPicPr/>
          <p:nvPr/>
        </p:nvPicPr>
        <p:blipFill>
          <a:blip r:embed="rId2"/>
          <a:stretch/>
        </p:blipFill>
        <p:spPr>
          <a:xfrm>
            <a:off x="304920" y="3505320"/>
            <a:ext cx="40384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цепенение (реакция  на изменения температуры среды  водных  животных)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19076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раси закапываются            Осетры лежат неподвиж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ил, температура их тела          близ дна, их тело покры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ускается.                                  вается толстым сло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изи,которая изолируе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низких температу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карась2"/>
          <p:cNvPicPr/>
          <p:nvPr/>
        </p:nvPicPr>
        <p:blipFill>
          <a:blip r:embed="rId1"/>
          <a:stretch/>
        </p:blipFill>
        <p:spPr>
          <a:xfrm>
            <a:off x="533520" y="1219320"/>
            <a:ext cx="3538440" cy="2971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Осетра"/>
          <p:cNvPicPr/>
          <p:nvPr/>
        </p:nvPicPr>
        <p:blipFill>
          <a:blip r:embed="rId2"/>
          <a:stretch/>
        </p:blipFill>
        <p:spPr>
          <a:xfrm>
            <a:off x="4648320" y="1219320"/>
            <a:ext cx="3733560" cy="29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еплокровные животные</a:t>
            </a:r>
            <a:br>
              <a:rPr sz="40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(имеют постоянную температуру тела)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пособы приспособления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организма к изменениям  температуры среды обитания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устота волосяного покрова или перьевого покро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ичие подкожного жи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ота дыхательных движ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67680" y="-6696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2590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чень теплый покров имеют: овцебык,северный олень,  белый медведь,  королевский пингви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0600" y="533160"/>
            <a:ext cx="403848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приближении зимы количество пуховых перьев на теле чижа увеличивается примерно на одну тысяч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чиж"/>
          <p:cNvPicPr/>
          <p:nvPr/>
        </p:nvPicPr>
        <p:blipFill>
          <a:blip r:embed="rId1"/>
          <a:stretch/>
        </p:blipFill>
        <p:spPr>
          <a:xfrm>
            <a:off x="152280" y="152280"/>
            <a:ext cx="3581640" cy="2362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Пингвин королевский"/>
          <p:cNvPicPr/>
          <p:nvPr/>
        </p:nvPicPr>
        <p:blipFill>
          <a:blip r:embed="rId2"/>
          <a:stretch/>
        </p:blipFill>
        <p:spPr>
          <a:xfrm>
            <a:off x="152280" y="3581280"/>
            <a:ext cx="2895840" cy="3276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Северный олень"/>
          <p:cNvPicPr/>
          <p:nvPr/>
        </p:nvPicPr>
        <p:blipFill>
          <a:blip r:embed="rId3"/>
          <a:stretch/>
        </p:blipFill>
        <p:spPr>
          <a:xfrm>
            <a:off x="3276720" y="3581280"/>
            <a:ext cx="2504880" cy="327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белый медведь"/>
          <p:cNvPicPr/>
          <p:nvPr/>
        </p:nvPicPr>
        <p:blipFill>
          <a:blip r:embed="rId4"/>
          <a:stretch/>
        </p:blipFill>
        <p:spPr>
          <a:xfrm>
            <a:off x="6248520" y="3581280"/>
            <a:ext cx="2438280" cy="32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ведение животных при температурных изменения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315200" cy="13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езонном понижении температуры теплокровные животные впадают в спяч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Медведь в спячке1"/>
          <p:cNvPicPr/>
          <p:nvPr/>
        </p:nvPicPr>
        <p:blipFill>
          <a:blip r:embed="rId1"/>
          <a:stretch/>
        </p:blipFill>
        <p:spPr>
          <a:xfrm>
            <a:off x="1371600" y="2514600"/>
            <a:ext cx="6705720" cy="4210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ветреную погоду  пингвины сбиваются в плотные группы и внутри их укрывают детенышей. Такой способ поведения позволяет удерживать  внутри группы более высокий уровень температуры и спасать себя и свое потомство от ледяного вет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penguins_03"/>
          <p:cNvPicPr/>
          <p:nvPr/>
        </p:nvPicPr>
        <p:blipFill>
          <a:blip r:embed="rId1"/>
          <a:stretch/>
        </p:blipFill>
        <p:spPr>
          <a:xfrm>
            <a:off x="1143000" y="2286000"/>
            <a:ext cx="655308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а_Мастера</cp:lastModifiedBy>
  <dcterms:modified xsi:type="dcterms:W3CDTF">2011-11-13T09:42:0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