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B9C-8E5C-4724-9A04-AA4804D8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C431-58E1-4ACD-BD23-F6E79161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539E-5A0A-4B8B-B60D-7834883A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F5A-3B82-4B97-8F81-F98D06ADF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FBAD-E552-4132-9EB8-E945C55D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652B-E758-463B-89AB-DCF9045D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F44D-8DB6-46D6-823C-9BEB0129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9B25-FBF4-495F-BF8C-B4E24A56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D046-04C9-42AF-8C10-64CFC7CB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3ED1-7011-4582-8446-7082A664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FCF2-3233-446F-A950-C592EF55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1CD-F2D0-4134-B203-165B1780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605E-7787-4E41-BC60-9882AE94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8E52-04CA-4FD7-9DC5-B220DBD5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8113-B400-433F-9933-42F49AD9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6BB5-44D6-42F1-ACF3-C88D5D47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E744-95D9-4BD9-B41E-36ECD4FC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21690-D456-4558-A32F-AA154D81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43E9BC-AB22-4D6C-8C94-1060BC49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5E876-8DB8-431D-9613-A43B2A66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91031-BA4C-401B-B7B7-479D7FF1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AAE2A3-91F5-4E0B-B0D1-361C1E26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F8A-CD67-411F-9991-0B7A9B73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1D133B-B000-4179-B68C-6350EFD6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49472-1539-4F35-BD87-7A239695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43267-ED55-4A7E-91B8-28828E6F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C9791-7AD5-4526-9607-718A9078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DC6DA-CCD8-471F-B8AE-2E859EB2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0725F-AB32-44F3-9E9E-24F55C38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579F42-165E-4305-B6F0-DF316075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6DAA6-9853-4C16-9879-F5540F25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39851-B7CC-466C-BE1D-A1260578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2B8B1-530E-4073-939E-608C9C24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6631-483C-4EAC-B551-8D75CB92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D6299-2C4F-41E5-BC0E-8074EA5C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CC89E-0271-4934-B8DF-50D70B8B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83EB8-7C4D-4BA6-856B-EC619AB6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30280-FB40-4D7B-9F00-6741FC52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944D3-F3B5-49CB-BA06-D404C1E0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0D1F2-F963-4762-831F-7DD97BC9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4C8C3-8896-4D59-B322-DA47952C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D4DAF-ADD0-48B7-B078-7BB5FF68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0581F-25E0-48E6-B31A-5CEA5348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08E53E-5C7B-4B4C-94E6-8848080F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BBB-2343-4955-91A6-F6785F28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9D0298-6231-41A2-9C59-553884BC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63F521-2F00-4796-8103-D7748541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2ED45D-BC78-4BD9-966A-090E3A7B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45D8BB-609A-4979-A483-2BB6D36C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1497A7-4F43-481D-ABFD-F0A14626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2F6866-466F-4FE2-A11B-EACEB2D3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65E3D6-5CE6-4865-8452-11CD946C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89DBEB-450D-4F8E-BF3D-4981FA9D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8E0E40-8806-456D-8832-549AB777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54C742-1CAD-442C-95DA-DA0522C8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9A4F-2EBB-40F5-98DB-E7D37940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D33C2-716E-43B1-A067-CFB7735DF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21A053-D669-40D6-87E1-094BB737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00E888-A6A5-488D-935F-F72CF6EC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980DA8-3817-41DF-9BFF-D7653021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B40F9A-E117-4B4E-804E-8604A394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CC8743-81EA-4FB2-A6BE-586793EB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2DDC7F-5845-404F-80F2-40268A74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085589-4130-4F30-944F-86160528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63E01-557A-490C-967E-098834D4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C6025C-4992-4D89-A0D3-265751C4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C1F7-CD51-4222-8285-A83FC91A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F10422-9995-4191-9E31-B91BE3AA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261008-78A0-4A27-97E6-FB153B3E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55310-31EE-4ACE-8DF7-6293F55F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0F90DC-E905-41EA-8C85-694C8713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9759B8-89BC-449D-8AF9-6F3480C7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A022AC-12C8-4E6D-A3B4-9E4C4A6A6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AFAC00-882C-4236-A0A0-9BA7AC33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5174A2-60C4-4C42-8D2C-22F0F590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416CF6-427E-4303-B3B3-D582F812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FE3005-9D7E-411F-B9FA-D3F61EC0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FFF-05B5-49F3-B315-5C33D9FE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27684B-22A2-4696-9AEC-AD8EA2D2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4071F0-BCD9-4479-BDAF-58DDA476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1CF0E8-0BF7-4390-AA77-DFAC1B7C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087614-DF56-49D4-8FA0-5DB1C712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728562-F8F3-4E88-8099-BA24FB9E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1350B-8B7D-4F7D-88AD-6D4B0A9D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20401-9DB4-4094-A3C0-6040CABF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34019-A456-4184-882E-EC9AB17E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30C96-6C6B-4A6D-AFB7-EE366614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3624A-35C3-4334-96A7-294BDA2A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FB73-1A06-4E71-8C1C-634F7D8B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57409-205A-4639-943C-A9D13AAD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DDA83-9C2D-4001-BD8D-45B87452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FACC2-0E9E-428B-B470-36DC41C5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85FD9-2E28-46E5-9A90-21866866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DFBC5-E4F5-40AF-89C8-5DDB83D3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A8DA8-A3FE-4EA6-8612-B0156E0B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40E8C-D020-4A8B-9D5D-AEAA5D55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83C1-0425-483F-822E-A653F6BA1C7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C506-DE8A-4504-A237-F25E720B6A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572F-AB55-406E-94AF-C20BCD3176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8189-2268-48D1-8446-8681E10C9D5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4053-9407-420F-B22D-D9B17F1E3CC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F059-BC6C-4B29-8A7A-8F7E0AE07C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BB58-3350-4967-8A9C-6CDBC371330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C0F5-096D-4F96-92BA-BF9DE047C60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planurokal@mail.ru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planurokas@mail.ru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planurokap@mail.ru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lanurokaa@mail.ru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99736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КАФЕДРА НАЧАЛЬНОГО ОБРАЗОВАНИЯ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 ГБОУ ДПО </a:t>
            </a:r>
            <a:br>
              <a:rPr sz="2800"/>
            </a:br>
            <a:r>
              <a:rPr b="1" lang="ru-RU" sz="2800" spc="-1" strike="noStrike">
                <a:solidFill>
                  <a:srgbClr val="898989"/>
                </a:solidFill>
                <a:latin typeface="Century Schoolbook"/>
              </a:rPr>
              <a:t>«НИЖЕГОРОДСКИЙ ИНСТИТУТ РАЗВИТИЯ ОБРАЗОВАНИЯ»</a:t>
            </a:r>
            <a:br>
              <a:rPr sz="2900"/>
            </a:b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979640" y="544500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Требования к оформлению зачетной работы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Квалификационные курсы 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Century Schoolbook"/>
              </a:rPr>
              <a:t>НИРО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98989"/>
                </a:solidFill>
                <a:latin typeface="Arial"/>
              </a:rPr>
              <a:t>2017 - 2018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ПРОЕКТ УРОКА</a:t>
            </a:r>
            <a:br>
              <a:rPr sz="2700"/>
            </a:br>
            <a:r>
              <a:rPr b="0" lang="ru-RU" sz="2700" spc="-1" strike="noStrike">
                <a:solidFill>
                  <a:srgbClr val="c00000"/>
                </a:solidFill>
                <a:latin typeface="Century Schoolbook"/>
              </a:rPr>
              <a:t>СТРУКТУР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чебный предмет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К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ма урока 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ип урока: </a:t>
            </a:r>
            <a:r>
              <a:rPr b="0" lang="ru-RU" sz="2400" spc="-1" strike="noStrike" u="sng">
                <a:solidFill>
                  <a:srgbClr val="ff0000"/>
                </a:solidFill>
                <a:uFillTx/>
                <a:latin typeface="Century Schoolbook"/>
              </a:rPr>
              <a:t>изучение нового материа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и урока__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жидаемые результаты (предметные; метапредметные: познавательные, коммуникативные, регулятивные; личностны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орудов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ходный уровень знаний и умений обучаю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изучения данной тем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апы урока и хронометраж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держание урока (в таблиц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оанализ уро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заполненный бланк ( в том числе и в электронном виде 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хнические треб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МА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улируется </a:t>
            </a: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полн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 точно в соответствии с рекомендациями авторов УМК, данными в рабочей программе и методических рекомендациях по предмет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ЗАДАЧИ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конкретных дидактических задач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полно и точно, так, чтобы можно было отследить их реализацию в ходе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Важно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ставятся только т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и, над которыми реально ведется работ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 данном уроке и их реализацию возможно отследить в ходе уро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6840" y="333360"/>
            <a:ext cx="74674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Задачи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уются комплексные задачи, связанные с формированием различных компонентов учебной деятельности и УУД, а дидактические задачи включаются в  них как составная част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Например,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познавательных логических УУД анализа и обобщения на основе самостоятельного открытия учащимися нового вычислительного приема сложения с переходом через десяток»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              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Развитие регулятивного УУД итогового самоконтроля на основе соотнесения составленного текста и его модел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НЕ допускается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формулировка задач урока в общей форме, например, «Развивать мышление учащихся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ОБОРУДОВ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8360" y="126792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глядные пособ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боры, инструмент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дивидуальные пособия (карточки, средства обратной связи и др.) прилагаются к конспекту и описываютс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омпьютерная презентация (если есть в ней необходимость), прикладывается к проекту и др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ПЛАН И ХРОНОМЕТРАЖ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дробный план, отражае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ую и методическую структуру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, краткое содержание каждого этап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ся время на каждый этап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1042920" y="4005360"/>
          <a:ext cx="7705800" cy="1981080"/>
        </p:xfrm>
        <a:graphic>
          <a:graphicData uri="http://schemas.openxmlformats.org/drawingml/2006/table">
            <a:tbl>
              <a:tblPr/>
              <a:tblGrid>
                <a:gridCol w="941400"/>
                <a:gridCol w="4316400"/>
                <a:gridCol w="2448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№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/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звание эта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ронометра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План урока с хронометражем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имеры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ткрытие способа вычисления площади прямоугольника с применением палетк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Ознакомление с новым вычислительным приемом вида 9+5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«Самостоятельная работа учащихся по выявлению свойств и состояний воды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5f6d"/>
                </a:solidFill>
                <a:latin typeface="Times New Roman"/>
              </a:rPr>
              <a:t>ХОД УРОК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0" y="981000"/>
          <a:ext cx="8785080" cy="5515200"/>
        </p:xfrm>
        <a:graphic>
          <a:graphicData uri="http://schemas.openxmlformats.org/drawingml/2006/table">
            <a:tbl>
              <a:tblPr/>
              <a:tblGrid>
                <a:gridCol w="1425600"/>
                <a:gridCol w="2174760"/>
                <a:gridCol w="2149560"/>
                <a:gridCol w="3035160"/>
              </a:tblGrid>
              <a:tr h="41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Этап уро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ятельность уча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оретическое основание: формируемые УУД (группа УУД  и название конкретного УУД) , средства их формирования (формы, методы, приемы и т.п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ОДЕРЖАНИЕ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ход, всё содержание (скан.задания учебника, тетради) и организацию урок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ются слова учителя и образцы рассуждений учени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ы работы и способы организации деятельности учащихся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ена дифференциация и индивидуализация обучения  младших школьников (указаны упражнения, виды помощи для отдельных учеников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ТЕОРЕТИЧЕСКОЕ ОБОСНОВ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ражает процесс формирования УУД на каждом этапе данного уро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а построения сужд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что формируется (указывае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группа и конкретное ууд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из этой группы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с помощью чего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указываются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конкретны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дидактические и/или методические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редства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БОУ ДП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жегородский институт развития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федра начального образов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рсы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«Теория и методика преподавания в начальной школе в условиях реализации ФГОС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(срок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06.20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ЧЕТНАЯ РАБО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 урока по теме: «     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ыполнил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У № _____ _______________райо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О _______________________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валификационная категория ____________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ж работы учителем начальных классов___л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.Новгор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18 г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WordArt 3"/>
          <p:cNvSpPr txBox="1"/>
          <p:nvPr/>
        </p:nvSpPr>
        <p:spPr>
          <a:xfrm rot="5400000">
            <a:off x="-2737080" y="3321000"/>
            <a:ext cx="6337440" cy="21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итульный лист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Century Schoolbook"/>
              </a:rPr>
              <a:t>САМОАНАЛИЗ УРО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роводится в соответствии со схемой анализа (бланк №1 и №2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ритери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 - соответствует требованиям ФГОС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 - частично соответствуе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 –не соответствует (отражает требования к традиционному уроку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 этим критериям оценивает работу и преподаватель кафед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76640" y="1196640"/>
            <a:ext cx="1467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ЦЕНКА ПРОЕКТА УРОКА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НК №1</a:t>
            </a:r>
            <a:br>
              <a:rPr sz="1800"/>
            </a:br>
            <a:br>
              <a:rPr sz="14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4400" y="25560"/>
          <a:ext cx="7510320" cy="7500600"/>
        </p:xfrm>
        <a:graphic>
          <a:graphicData uri="http://schemas.openxmlformats.org/drawingml/2006/table">
            <a:tbl>
              <a:tblPr/>
              <a:tblGrid>
                <a:gridCol w="450720"/>
                <a:gridCol w="6122880"/>
                <a:gridCol w="368280"/>
                <a:gridCol w="568440"/>
              </a:tblGrid>
              <a:tr h="420480"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\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row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араметр оцен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ложность  содержания, его соответствие возможностям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еализация компетентностного подх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ворческий или репродуктивный характер учебных заданий, их целесообразность и обоснова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азвивающая направленность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Логика построения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ы учебной  работы, их разнообразие и оптимальность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Методы обучения и методические приемы, целесообразность их выбо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арактер используемой нагляд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19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Целесообразность и функциональность используемых средств обуч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уществление дифференцированного подхода к учащимся, учет их индивидуальных особен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6052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мотивационного компонента учебн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становка учебных задач. Организация целеполаг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08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познаватель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116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регуля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0800"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ормирование коммуникативных УУ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10240">
                <a:tc gridSpan="2"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 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сего бал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0" marR="50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43" name="Rectangle 2"/>
          <p:cNvSpPr/>
          <p:nvPr/>
        </p:nvSpPr>
        <p:spPr>
          <a:xfrm>
            <a:off x="7524720" y="2175480"/>
            <a:ext cx="1619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ьная сумм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баллов (разработанный урок полностью соответствует ФГОС), минимальная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баллов (урок является традиционным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9679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АЛИЗ СООТВЕТСТВИЯ СТРУКТУРНЫХ ЧАСТЕЙ ПРОЕКТА УРОКА                                                         БЛАНК №2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50920" y="620640"/>
          <a:ext cx="8640720" cy="4803840"/>
        </p:xfrm>
        <a:graphic>
          <a:graphicData uri="http://schemas.openxmlformats.org/drawingml/2006/table">
            <a:tbl>
              <a:tblPr/>
              <a:tblGrid>
                <a:gridCol w="1185840"/>
                <a:gridCol w="4678200"/>
                <a:gridCol w="1387440"/>
                <a:gridCol w="1389240"/>
              </a:tblGrid>
              <a:tr h="30816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труктурные части проекта и параметры их оце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алл (3,2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амо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учител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ценка преподавателя НИ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Наличие общих сведений о проекте и соблюдение правил оформления зачет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561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пределение исходного уровня сформированности ЗУ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равильность формулировки темы и задач урока, наличие сведений об оборудовании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облюдение требований к плану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Качество теоретического обосн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  <a:tr h="8431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декватность самоанализа урока (объективность выставления учителем баллов за свой конспек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39d"/>
                    </a:solidFill>
                  </a:tcPr>
                </a:tc>
              </a:tr>
            </a:tbl>
          </a:graphicData>
        </a:graphic>
      </p:graphicFrame>
      <p:sp>
        <p:nvSpPr>
          <p:cNvPr id="446" name="Rectangle 1"/>
          <p:cNvSpPr/>
          <p:nvPr/>
        </p:nvSpPr>
        <p:spPr>
          <a:xfrm>
            <a:off x="250920" y="5479920"/>
            <a:ext cx="853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ценивания используется следующая шкала: 3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ует требованиям, 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тично соответствует, 1 - минимально соответствует, 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ностью не соответствует. Максимальная сумм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 баллов, минимальн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 бал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оценка проекта урока и структурных частей проекта урока в сумме может составить 63 балла максим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ки зачетной работы преподавателем НИР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31 балл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чтено с замеча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- 63  - зачте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ТЕХНИЧЕСКИЕ ТРЕБОВА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выполняется на листах формата Ф-4, вложенных в папк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 New Rom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размер шрифта 14, межстрочный интервал 1,5; все поля 2 с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ы пронумерованы, на титульном листе номер не ставит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7598d9"/>
                </a:solidFill>
                <a:latin typeface="Century Schoolbook"/>
              </a:rPr>
              <a:t>ЛИТЕРАТУ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казываете дополнительную литературу (источники) , которые были использованы при подготовке проекта уро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ИТЕРАТУРА  (В ПОМОЩЬ УЧИТЕЛЮ):</a:t>
            </a:r>
            <a:br>
              <a:rPr sz="1400"/>
            </a:br>
            <a:r>
              <a:rPr b="0" lang="en-US" sz="1600" spc="-1" strike="noStrike">
                <a:solidFill>
                  <a:srgbClr val="575f6d"/>
                </a:solidFill>
                <a:latin typeface="Arial"/>
              </a:rPr>
              <a:t>СОВРЕМЕННЫЕ ТЕХНОЛОГИИ ПРОВЕДЕНИЯ УРОКА В НАЧАЛЬНОЙ ШКОЛЕ С УЧЕТОМ ТРЕБОВАНИЙ ФГОС» ПОД РЕД. ДЕМЕНЕВОЙ Н. Н., ИЗДАТЕЛЬСТВО «АРКТИ», 2014 Г. </a:t>
            </a: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21128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В пособии раскрываются особенности построения современного урока в начальной школе с учетом требования Федерального государственного стандарта. Сопоставлены характеристики традиционного урока, не соответствующего стандарту, и развивающего урока, соответствующего ФГОС НОО. Приводятся примеры из вариативных учебников для начальной школы по различным учебным предмета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Пособие адресовано учителям начальных классов, директорам и завучам общеобразовательных учреждений, студентам педагогических вузов и колледж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5" descr="image007"/>
          <p:cNvPicPr/>
          <p:nvPr/>
        </p:nvPicPr>
        <p:blipFill>
          <a:blip r:embed="rId1"/>
          <a:stretch/>
        </p:blipFill>
        <p:spPr>
          <a:xfrm>
            <a:off x="395280" y="1268280"/>
            <a:ext cx="33098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ЛЕНИН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l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Ленин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 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СОРМОВСКИЙ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s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рмов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ПРИОК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p@mail.ru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– Приок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АВТОЗАВОДСКИЙ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РАЙО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2611c"/>
                </a:solidFill>
                <a:latin typeface="Arial"/>
              </a:rPr>
              <a:t>Проект урока отправляется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на электронную почту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lanurokaa@mail.ru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втозаводский район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не позднее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11</a:t>
            </a: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3700" spc="-1" strike="noStrike">
                <a:solidFill>
                  <a:srgbClr val="f82616"/>
                </a:solidFill>
                <a:latin typeface="Century Schoolbook"/>
              </a:rPr>
              <a:t>июня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Требования к оформлению письм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(математика, русский язык, литературное чтение, окружающий мир, обучение грамоте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2616"/>
                </a:solidFill>
                <a:latin typeface="Century Schoolbook"/>
              </a:rPr>
              <a:t>При повторной отправке в теме письма указываются: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Фамилия, инициалы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Учебный предмет + «исправленное»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0" y="-243000"/>
            <a:ext cx="9901080" cy="6915240"/>
          </a:xfrm>
          <a:prstGeom prst="rect">
            <a:avLst/>
          </a:prstGeom>
          <a:ln w="0">
            <a:noFill/>
          </a:ln>
        </p:spPr>
      </p:pic>
      <p:sp>
        <p:nvSpPr>
          <p:cNvPr id="411" name="TextBox 2"/>
          <p:cNvSpPr/>
          <p:nvPr/>
        </p:nvSpPr>
        <p:spPr>
          <a:xfrm>
            <a:off x="2916360" y="2205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ля </a:t>
            </a: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ормовского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"/>
          <p:cNvSpPr/>
          <p:nvPr/>
        </p:nvSpPr>
        <p:spPr>
          <a:xfrm>
            <a:off x="3995640" y="191628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ример оформ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260280"/>
            <a:ext cx="45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643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entury Schoolbook"/>
              </a:rPr>
              <a:t>В ПРИКРЕПЛЕННОМ  К ПИСЬМУ ФАЙЛЕ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2060280"/>
            <a:ext cx="82296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Проект урока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Бланки самоанализа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Дополнительный материал: презентация;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      </a:t>
            </a:r>
            <a:r>
              <a:rPr b="1" lang="ru-RU" sz="3600" spc="-1" strike="noStrike">
                <a:solidFill>
                  <a:srgbClr val="0070c0"/>
                </a:solidFill>
                <a:latin typeface="Century Schoolbook"/>
              </a:rPr>
              <a:t>сканкопии страниц учебника; тетради и т.д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743040" indent="-74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entury Schoolbook"/>
              </a:rPr>
              <a:t>ПРЕДМЕТЫ: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Литературное чтени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Обучение грамоте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9:00:30Z</dcterms:created>
  <dc:creator>Александр</dc:creator>
  <dc:description/>
  <dc:language>en-US</dc:language>
  <cp:lastModifiedBy>*</cp:lastModifiedBy>
  <dcterms:modified xsi:type="dcterms:W3CDTF">2018-05-29T08:12:19Z</dcterms:modified>
  <cp:revision>147</cp:revision>
  <dc:subject/>
  <dc:title>Требования к итоговой работе</dc:title>
</cp:coreProperties>
</file>