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</p:sldIdLst>
  <p:sldSz cx="6858000" cy="5145088"/>
  <p:notesSz cx="9144000" cy="5145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514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9625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19"/>
          </p:nvPr>
        </p:nvSpPr>
        <p:spPr>
          <a:xfrm>
            <a:off x="5179680" y="0"/>
            <a:ext cx="396252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Img"/>
          </p:nvPr>
        </p:nvSpPr>
        <p:spPr>
          <a:xfrm>
            <a:off x="3414600" y="642960"/>
            <a:ext cx="2314800" cy="173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body"/>
          </p:nvPr>
        </p:nvSpPr>
        <p:spPr>
          <a:xfrm>
            <a:off x="914400" y="2474640"/>
            <a:ext cx="7315200" cy="20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ftr" idx="20"/>
          </p:nvPr>
        </p:nvSpPr>
        <p:spPr>
          <a:xfrm>
            <a:off x="-360" y="4885920"/>
            <a:ext cx="396252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 type="sldNum" idx="21"/>
          </p:nvPr>
        </p:nvSpPr>
        <p:spPr>
          <a:xfrm>
            <a:off x="5179680" y="4885920"/>
            <a:ext cx="396252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7259-EA8F-48AA-8ABF-0E9F0F0251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3414600" y="642960"/>
            <a:ext cx="2314800" cy="17366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2474640"/>
            <a:ext cx="731520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5180040" y="4886280"/>
            <a:ext cx="39625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F250-6CEB-4CF6-BFE7-DAD3DAE2A0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3414600" y="642960"/>
            <a:ext cx="2314800" cy="1736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2474640"/>
            <a:ext cx="731520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5180040" y="4886280"/>
            <a:ext cx="39625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1898-9531-4304-834A-C00A1CA4BC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3414600" y="642960"/>
            <a:ext cx="2314800" cy="17366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2474640"/>
            <a:ext cx="731520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5180040" y="4886280"/>
            <a:ext cx="39625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F1E1-B534-4C5D-A109-7389D56D05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3414600" y="642960"/>
            <a:ext cx="2314800" cy="1736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2474640"/>
            <a:ext cx="731520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5180040" y="4886280"/>
            <a:ext cx="39625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D90B-C18C-4F84-890C-DF690B1485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6F53-E91D-49FB-AE3F-28794B37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F208-868D-4541-8A29-541F5A6D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26CA-B606-4A8A-AE3C-6FE5EC203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0960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8718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76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0960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8718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55C0-DFF7-44FF-A0C6-287658DE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1828-C921-49CA-B1B8-BB6DE267C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A92F-D863-47FB-9332-D690B918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DA94-1130-4803-AE54-2AB9A870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0B53-F5E8-453E-9B94-6B8BFFB7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6076-32A1-47E3-92B4-DE1C6740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97000" y="33120"/>
            <a:ext cx="62640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01AF-894E-49A2-BFB0-2CBF0017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91D1-B5E7-4725-8072-D2DEA866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10AD-C8A7-4007-9A0C-21DE0C7F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7078-854F-4523-81C5-E8FDF40C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9328-9672-46CF-8E96-60682B6B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46AC-7B3D-4084-813F-730C09C3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DE0E-746B-4B53-BC10-D612FC862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0960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718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476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0960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8718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D34E-1970-4874-AF80-CCB3841E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6B9FB-975B-4774-9440-2A43570C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1B4EB-3A92-4C07-81CA-295E9831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39D1A-23C1-4018-82C5-F3537B0C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30C73-A635-4DDC-9BBB-CBB39BE0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3E01A-1DA9-4083-97D3-C2D55006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DB4F-54F5-4EA7-A0E0-4EF36AD6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97000" y="33120"/>
            <a:ext cx="62640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57411-696A-4D12-9F2B-FAB84358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0F5A9-5D02-48F8-BB1A-BDF4AA22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4532C-45AB-420E-9E5D-A6481C1E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C5177-7983-4637-A139-EB0B303D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E5F2F-D59D-48DA-9299-82125BD7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BB763-D132-4A44-A4B8-0CAE2548D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60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8718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1476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60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48718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0E456-0F0B-449D-B8EE-5618072E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FDF27-BB17-497C-B566-427685443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C9B56-BE29-456D-A774-1A955B1F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0E5F7-04DF-46E3-BE4A-598CA001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E1C2-5944-474A-8686-F998A545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8E5F8-36D6-41B5-8DE7-CE28DCF3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A7DE4-B9EF-4711-A40A-4FDF745E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97000" y="33120"/>
            <a:ext cx="62640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A03B1-E883-456A-926C-8686FCAA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5B964-11C7-4135-9B44-2ECC3391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EFC12-C674-4619-A811-83C78893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8E375-E745-4A6B-8F08-434E8B76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F577C-729F-4490-BA5F-F7DBEBC0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98D01-2F6B-4078-97B6-96D3137A6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00960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8718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476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00960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48718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9ED1A-2608-4844-9F8D-9059043A0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7869B-E0F3-4D79-8CD9-5AD333E2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DAAB-770D-49CE-A5E3-91CC2F87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9E442-EAF0-41DE-BEFE-FC48E867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5D124-57A4-42D5-BEE9-15DFEDF3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537AC-5419-4835-B549-AD0C6940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BE8FD-D817-4A92-B6D3-F37A0BF0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97000" y="33120"/>
            <a:ext cx="62640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88ABB-5773-41AF-BA4A-2B2BEDB5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BAC58-CB1D-45D4-8527-080B6E06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D54FA-077D-4604-909C-98A2A54D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7CF22-13E4-4404-A41B-831F24F9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FAE58-9440-4B21-884E-95251DF8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528AE-1B51-43BF-A33B-DB5738D1B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97000" y="33120"/>
            <a:ext cx="62640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FAEA-3FBA-4EC4-8BA1-B9DF1B4F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00960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718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1476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00960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48718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23919-30E2-4C01-85EF-2B2778A00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2FE49-4FCD-4298-AFD7-B8379EB19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25649-A933-4E85-8FD1-F4197857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7DF90-0C6E-4934-A9EB-53BB6059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5D7DB-9588-4F2B-B233-D09D5C97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7FFA2-F7DC-4E9C-9380-9ADE3A5A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297000" y="33120"/>
            <a:ext cx="6264000" cy="12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27A42-B04C-4D6F-9DCB-ECF70EBE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89D65-B517-44CB-8F9D-C113ABCB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7D0B6-D048-4F1D-9678-A4AF55AD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637C2-5A0A-4D29-9A24-12C75C72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5D87-BA4C-4EB8-A943-E60A76DE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DCDE0-E74F-48D7-AF77-4E912C0F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60369-445B-4F45-8CA9-48BED9513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00960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871880" y="8730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1476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00960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4871880" y="2055600"/>
            <a:ext cx="1773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8701C-87A9-436D-B239-83F83128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69720" y="20556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09D3-97BC-4B62-928A-3E461D37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768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969720" y="873000"/>
            <a:ext cx="26874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7680" y="2055600"/>
            <a:ext cx="550728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E490-9C7D-4595-9337-5A7F93FE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k object 16"/>
          <p:cNvSpPr/>
          <p:nvPr/>
        </p:nvSpPr>
        <p:spPr>
          <a:xfrm>
            <a:off x="0" y="0"/>
            <a:ext cx="6858000" cy="5143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0288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332080" y="4782960"/>
            <a:ext cx="21938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342720" y="4782960"/>
            <a:ext cx="157788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937040" y="4782960"/>
            <a:ext cx="15782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AD8F-90D4-4670-B076-B0821E510241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0288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2332080" y="4782960"/>
            <a:ext cx="21938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5"/>
          </p:nvPr>
        </p:nvSpPr>
        <p:spPr>
          <a:xfrm>
            <a:off x="342720" y="4782960"/>
            <a:ext cx="157788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937040" y="4782960"/>
            <a:ext cx="15782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B616-19B7-4077-93A0-2E5FFC56CBD3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0288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2332080" y="4782960"/>
            <a:ext cx="21938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8"/>
          </p:nvPr>
        </p:nvSpPr>
        <p:spPr>
          <a:xfrm>
            <a:off x="342720" y="4782960"/>
            <a:ext cx="157788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4937040" y="4782960"/>
            <a:ext cx="15782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5468-6206-4A57-9FCA-73FADCA6478D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0288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0"/>
          </p:nvPr>
        </p:nvSpPr>
        <p:spPr>
          <a:xfrm>
            <a:off x="2332080" y="4782960"/>
            <a:ext cx="21938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1"/>
          </p:nvPr>
        </p:nvSpPr>
        <p:spPr>
          <a:xfrm>
            <a:off x="342720" y="4782960"/>
            <a:ext cx="157788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4937040" y="4782960"/>
            <a:ext cx="15782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544E-06E8-4D3A-A18F-FE9DA93BCBB4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bk object 16"/>
          <p:cNvSpPr/>
          <p:nvPr/>
        </p:nvSpPr>
        <p:spPr>
          <a:xfrm>
            <a:off x="0" y="0"/>
            <a:ext cx="6858000" cy="5143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0288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13"/>
          </p:nvPr>
        </p:nvSpPr>
        <p:spPr>
          <a:xfrm>
            <a:off x="2332080" y="4782960"/>
            <a:ext cx="21938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dt" idx="14"/>
          </p:nvPr>
        </p:nvSpPr>
        <p:spPr>
          <a:xfrm>
            <a:off x="342720" y="4782960"/>
            <a:ext cx="157788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4937040" y="4782960"/>
            <a:ext cx="15782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3EF5-7281-46FB-93A0-05A204759286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97000" y="33120"/>
            <a:ext cx="6264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47680" y="873000"/>
            <a:ext cx="550728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02888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3716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16"/>
          </p:nvPr>
        </p:nvSpPr>
        <p:spPr>
          <a:xfrm>
            <a:off x="2332080" y="4782960"/>
            <a:ext cx="21938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dt" idx="17"/>
          </p:nvPr>
        </p:nvSpPr>
        <p:spPr>
          <a:xfrm>
            <a:off x="342720" y="4782960"/>
            <a:ext cx="157788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4937040" y="4782960"/>
            <a:ext cx="1578240" cy="2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44EE-9C90-485F-B552-AB3E61F9675B}" type="slidenum">
              <a:rPr b="0" lang="ru-RU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2240" y="1906560"/>
            <a:ext cx="6549840" cy="563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0" rIns="0" tIns="1008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54061"/>
                </a:solidFill>
                <a:latin typeface="Arial"/>
                <a:ea typeface="Arial"/>
              </a:rPr>
              <a:t>Рабочая программа дисциплины (Б1.В.ДВ.3) </a:t>
            </a:r>
            <a:br>
              <a:rPr sz="1800"/>
            </a:br>
            <a:r>
              <a:rPr b="0" lang="ru-RU" sz="1800" spc="-1" strike="noStrike">
                <a:solidFill>
                  <a:srgbClr val="254061"/>
                </a:solidFill>
                <a:latin typeface="Arial"/>
                <a:ea typeface="Arial"/>
              </a:rPr>
              <a:t>«Педагогическая инноватика»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6" name="Прямоугольник 4"/>
          <p:cNvSpPr/>
          <p:nvPr/>
        </p:nvSpPr>
        <p:spPr>
          <a:xfrm>
            <a:off x="2371680" y="115920"/>
            <a:ext cx="1943280" cy="17906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рямоугольник 5"/>
          <p:cNvSpPr/>
          <p:nvPr/>
        </p:nvSpPr>
        <p:spPr>
          <a:xfrm>
            <a:off x="2371680" y="2470320"/>
            <a:ext cx="1943280" cy="18396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Рисунок 2" descr=""/>
          <p:cNvPicPr/>
          <p:nvPr/>
        </p:nvPicPr>
        <p:blipFill>
          <a:blip r:embed="rId1"/>
          <a:stretch/>
        </p:blipFill>
        <p:spPr>
          <a:xfrm>
            <a:off x="2951280" y="2560680"/>
            <a:ext cx="779400" cy="963720"/>
          </a:xfrm>
          <a:prstGeom prst="rect">
            <a:avLst/>
          </a:prstGeom>
          <a:ln w="0">
            <a:noFill/>
          </a:ln>
        </p:spPr>
      </p:pic>
      <p:sp>
        <p:nvSpPr>
          <p:cNvPr id="259" name="TextBox 6"/>
          <p:cNvSpPr/>
          <p:nvPr/>
        </p:nvSpPr>
        <p:spPr>
          <a:xfrm>
            <a:off x="2293920" y="3614760"/>
            <a:ext cx="20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ffff"/>
                </a:solidFill>
                <a:latin typeface="Calibri"/>
              </a:rPr>
              <a:t>Г.А. Игнатьева, доктор пед. наук, профессор, зав. кафедрой педагогики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ffffff"/>
                </a:solidFill>
                <a:latin typeface="Calibri"/>
              </a:rPr>
              <a:t>и андрагогики ГБОУ ДПО НИРО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Прямоугольник 7"/>
          <p:cNvSpPr/>
          <p:nvPr/>
        </p:nvSpPr>
        <p:spPr>
          <a:xfrm>
            <a:off x="985680" y="1376280"/>
            <a:ext cx="1406520" cy="28116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www.niro.nnov.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Рисунок 13" descr=""/>
          <p:cNvPicPr/>
          <p:nvPr/>
        </p:nvPicPr>
        <p:blipFill>
          <a:blip r:embed="rId2"/>
          <a:stretch/>
        </p:blipFill>
        <p:spPr>
          <a:xfrm>
            <a:off x="184320" y="763560"/>
            <a:ext cx="801360" cy="64944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9"/>
          <p:cNvSpPr/>
          <p:nvPr/>
        </p:nvSpPr>
        <p:spPr>
          <a:xfrm>
            <a:off x="4314960" y="3728880"/>
            <a:ext cx="1780920" cy="28116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e-mail: innov-nn@mail.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Рисунок 10" descr=""/>
          <p:cNvPicPr/>
          <p:nvPr/>
        </p:nvPicPr>
        <p:blipFill>
          <a:blip r:embed="rId3"/>
          <a:stretch/>
        </p:blipFill>
        <p:spPr>
          <a:xfrm>
            <a:off x="2425680" y="500040"/>
            <a:ext cx="1828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209160"/>
            <a:ext cx="6858000" cy="276120"/>
          </a:xfrm>
          <a:prstGeom prst="rect">
            <a:avLst/>
          </a:prstGeom>
          <a:solidFill>
            <a:srgbClr val="95b3d7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Arial"/>
                <a:ea typeface="Arial"/>
              </a:rPr>
              <a:t>Педагогическая инноватика 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65" name="Схема 4" descr=""/>
          <p:cNvPicPr/>
          <p:nvPr/>
        </p:nvPicPr>
        <p:blipFill>
          <a:blip r:embed="rId1"/>
          <a:stretch/>
        </p:blipFill>
        <p:spPr>
          <a:xfrm>
            <a:off x="-23760" y="853920"/>
            <a:ext cx="6881760" cy="326088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1595520" y="3181320"/>
            <a:ext cx="5257800" cy="91692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Хуторской А.В.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ая инноватика: учебное пособие для вузов. – Издательский центр «Академия», 2008. – 256 с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Лазарев В.С., Мартиросян Б.П.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ая инноватика. Учебник для студентов высших учебных заведений, обучающихся по направлению 540600 (050700) «Педагогика». – М.: Просвещение, 2006. – 217 с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Рисунок 5" descr=""/>
          <p:cNvPicPr/>
          <p:nvPr/>
        </p:nvPicPr>
        <p:blipFill>
          <a:blip r:embed="rId2"/>
          <a:stretch/>
        </p:blipFill>
        <p:spPr>
          <a:xfrm>
            <a:off x="304920" y="2036880"/>
            <a:ext cx="115236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9480" y="173160"/>
            <a:ext cx="6751800" cy="645840"/>
          </a:xfrm>
          <a:prstGeom prst="rect">
            <a:avLst/>
          </a:prstGeom>
          <a:solidFill>
            <a:srgbClr val="8eb4e3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54061"/>
                </a:solidFill>
                <a:latin typeface="Arial"/>
                <a:ea typeface="Arial"/>
              </a:rPr>
              <a:t>ПЕДАГОГИЧЕСКАЯ ИННОВАТИКА:</a:t>
            </a:r>
            <a:br>
              <a:rPr sz="1400"/>
            </a:br>
            <a:r>
              <a:rPr b="1" lang="ru-RU" sz="1400" spc="-1" strike="noStrike">
                <a:solidFill>
                  <a:srgbClr val="254061"/>
                </a:solidFill>
                <a:latin typeface="Arial"/>
                <a:ea typeface="Arial"/>
              </a:rPr>
              <a:t>понятие, объект, предмет</a:t>
            </a:r>
            <a:br>
              <a:rPr sz="1400"/>
            </a:br>
            <a:endParaRPr b="0" lang="en-US" sz="1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69" name="Схема 4" descr=""/>
          <p:cNvPicPr/>
          <p:nvPr/>
        </p:nvPicPr>
        <p:blipFill>
          <a:blip r:embed="rId1"/>
          <a:stretch/>
        </p:blipFill>
        <p:spPr>
          <a:xfrm>
            <a:off x="36360" y="1103400"/>
            <a:ext cx="6755040" cy="317016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5" descr=""/>
          <p:cNvPicPr/>
          <p:nvPr/>
        </p:nvPicPr>
        <p:blipFill>
          <a:blip r:embed="rId2"/>
          <a:stretch/>
        </p:blipFill>
        <p:spPr>
          <a:xfrm>
            <a:off x="304920" y="182520"/>
            <a:ext cx="1152360" cy="5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6880" y="249120"/>
            <a:ext cx="6629400" cy="432000"/>
          </a:xfrm>
          <a:prstGeom prst="rect">
            <a:avLst/>
          </a:prstGeom>
          <a:solidFill>
            <a:srgbClr val="b9cde5"/>
          </a:soli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tIns="31320" bIns="0" anchor="t">
            <a:noAutofit/>
          </a:bodyPr>
          <a:p>
            <a:pPr marL="61920" indent="0" algn="ctr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604a7b"/>
                </a:solidFill>
                <a:latin typeface="Trebuchet MS"/>
                <a:ea typeface="Trebuchet MS"/>
              </a:rPr>
              <a:t>ПЕДАГОГИЧЕСКАЯ ИННОВАТИКА</a:t>
            </a:r>
            <a:br>
              <a:rPr sz="1300"/>
            </a:br>
            <a:r>
              <a:rPr b="1" lang="ru-RU" sz="1300" spc="-1" strike="noStrike">
                <a:solidFill>
                  <a:srgbClr val="604a7b"/>
                </a:solidFill>
                <a:latin typeface="Trebuchet MS"/>
                <a:ea typeface="Trebuchet MS"/>
              </a:rPr>
              <a:t>Основная литература</a:t>
            </a:r>
            <a:endParaRPr b="0" lang="en-US" sz="13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2" name="object 4"/>
          <p:cNvSpPr/>
          <p:nvPr/>
        </p:nvSpPr>
        <p:spPr>
          <a:xfrm>
            <a:off x="950760" y="1320840"/>
            <a:ext cx="5712120" cy="558720"/>
          </a:xfrm>
          <a:custGeom>
            <a:avLst/>
            <a:gdLst/>
            <a:ahLst/>
            <a:rect l="l" t="t" r="r" b="b"/>
            <a:pathLst>
              <a:path w="7176770" h="530860">
                <a:moveTo>
                  <a:pt x="7176515" y="530351"/>
                </a:moveTo>
                <a:lnTo>
                  <a:pt x="265176" y="530351"/>
                </a:lnTo>
                <a:lnTo>
                  <a:pt x="0" y="265175"/>
                </a:lnTo>
                <a:lnTo>
                  <a:pt x="265176" y="0"/>
                </a:lnTo>
                <a:lnTo>
                  <a:pt x="7176515" y="0"/>
                </a:lnTo>
                <a:lnTo>
                  <a:pt x="7176515" y="530351"/>
                </a:lnTo>
                <a:close/>
              </a:path>
            </a:pathLst>
          </a:custGeom>
          <a:noFill/>
          <a:ln w="25920">
            <a:solidFill>
              <a:srgbClr val="2540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object 6"/>
          <p:cNvSpPr/>
          <p:nvPr/>
        </p:nvSpPr>
        <p:spPr>
          <a:xfrm>
            <a:off x="966960" y="2616120"/>
            <a:ext cx="5703840" cy="571680"/>
          </a:xfrm>
          <a:custGeom>
            <a:avLst/>
            <a:gdLst/>
            <a:ahLst/>
            <a:rect l="l" t="t" r="r" b="b"/>
            <a:pathLst>
              <a:path w="7176770" h="530860">
                <a:moveTo>
                  <a:pt x="7176515" y="0"/>
                </a:moveTo>
                <a:lnTo>
                  <a:pt x="265176" y="0"/>
                </a:lnTo>
                <a:lnTo>
                  <a:pt x="0" y="265175"/>
                </a:lnTo>
                <a:lnTo>
                  <a:pt x="265176" y="530351"/>
                </a:lnTo>
                <a:lnTo>
                  <a:pt x="7176515" y="530351"/>
                </a:lnTo>
                <a:lnTo>
                  <a:pt x="71765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object 7"/>
          <p:cNvSpPr/>
          <p:nvPr/>
        </p:nvSpPr>
        <p:spPr>
          <a:xfrm>
            <a:off x="933480" y="2017800"/>
            <a:ext cx="5740200" cy="450720"/>
          </a:xfrm>
          <a:custGeom>
            <a:avLst/>
            <a:gdLst/>
            <a:ahLst/>
            <a:rect l="l" t="t" r="r" b="b"/>
            <a:pathLst>
              <a:path w="7176770" h="530860">
                <a:moveTo>
                  <a:pt x="7176515" y="530351"/>
                </a:moveTo>
                <a:lnTo>
                  <a:pt x="265176" y="530351"/>
                </a:lnTo>
                <a:lnTo>
                  <a:pt x="0" y="265175"/>
                </a:lnTo>
                <a:lnTo>
                  <a:pt x="265176" y="0"/>
                </a:lnTo>
                <a:lnTo>
                  <a:pt x="7176515" y="0"/>
                </a:lnTo>
                <a:lnTo>
                  <a:pt x="7176515" y="530351"/>
                </a:lnTo>
                <a:close/>
              </a:path>
            </a:pathLst>
          </a:custGeom>
          <a:noFill/>
          <a:ln w="25920">
            <a:solidFill>
              <a:srgbClr val="2540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object 13"/>
          <p:cNvSpPr/>
          <p:nvPr/>
        </p:nvSpPr>
        <p:spPr>
          <a:xfrm>
            <a:off x="936720" y="2676600"/>
            <a:ext cx="5734080" cy="571320"/>
          </a:xfrm>
          <a:custGeom>
            <a:avLst/>
            <a:gdLst/>
            <a:ahLst/>
            <a:rect l="l" t="t" r="r" b="b"/>
            <a:pathLst>
              <a:path w="7176770" h="530860">
                <a:moveTo>
                  <a:pt x="7176515" y="530351"/>
                </a:moveTo>
                <a:lnTo>
                  <a:pt x="265176" y="530351"/>
                </a:lnTo>
                <a:lnTo>
                  <a:pt x="0" y="265175"/>
                </a:lnTo>
                <a:lnTo>
                  <a:pt x="265176" y="0"/>
                </a:lnTo>
                <a:lnTo>
                  <a:pt x="7176515" y="0"/>
                </a:lnTo>
                <a:lnTo>
                  <a:pt x="7176515" y="530351"/>
                </a:lnTo>
                <a:close/>
              </a:path>
            </a:pathLst>
          </a:custGeom>
          <a:noFill/>
          <a:ln w="25920">
            <a:solidFill>
              <a:srgbClr val="25406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Прямоугольник 19"/>
          <p:cNvSpPr/>
          <p:nvPr/>
        </p:nvSpPr>
        <p:spPr>
          <a:xfrm>
            <a:off x="46080" y="1231920"/>
            <a:ext cx="865080" cy="239724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Рисунок 23" descr=""/>
          <p:cNvPicPr/>
          <p:nvPr/>
        </p:nvPicPr>
        <p:blipFill>
          <a:blip r:embed="rId1"/>
          <a:stretch/>
        </p:blipFill>
        <p:spPr>
          <a:xfrm>
            <a:off x="228600" y="1946160"/>
            <a:ext cx="500040" cy="69372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2" descr=""/>
          <p:cNvPicPr/>
          <p:nvPr/>
        </p:nvPicPr>
        <p:blipFill>
          <a:blip r:embed="rId2"/>
          <a:stretch/>
        </p:blipFill>
        <p:spPr>
          <a:xfrm>
            <a:off x="214200" y="1206360"/>
            <a:ext cx="528840" cy="69876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оугольник 4"/>
          <p:cNvSpPr/>
          <p:nvPr/>
        </p:nvSpPr>
        <p:spPr>
          <a:xfrm>
            <a:off x="1106640" y="2085840"/>
            <a:ext cx="5446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Хуторской А.В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Дидактика: Учебник для вузов. Стандарт третьего поколения. СПб.: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итер, 2017.- 720 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5"/>
          <p:cNvSpPr/>
          <p:nvPr/>
        </p:nvSpPr>
        <p:spPr>
          <a:xfrm>
            <a:off x="1066680" y="2709720"/>
            <a:ext cx="5316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Хуторской А.В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ая инноватика: учебное пособие для вузов. – Издательский центр «Академия», 2008. – 256 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Рисунок 6" descr=""/>
          <p:cNvPicPr/>
          <p:nvPr/>
        </p:nvPicPr>
        <p:blipFill>
          <a:blip r:embed="rId3"/>
          <a:stretch/>
        </p:blipFill>
        <p:spPr>
          <a:xfrm>
            <a:off x="201600" y="2771640"/>
            <a:ext cx="527040" cy="67500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29"/>
          <p:cNvSpPr/>
          <p:nvPr/>
        </p:nvSpPr>
        <p:spPr>
          <a:xfrm>
            <a:off x="88920" y="4132440"/>
            <a:ext cx="6629400" cy="29664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254061"/>
                </a:solidFill>
                <a:latin typeface="Calibri"/>
                <a:ea typeface="Calibri"/>
              </a:rPr>
              <a:t>             </a:t>
            </a:r>
            <a:r>
              <a:rPr b="1" i="1" lang="ru-RU" sz="1100" spc="-1" strike="noStrike">
                <a:solidFill>
                  <a:srgbClr val="254061"/>
                </a:solidFill>
                <a:latin typeface="Calibri"/>
                <a:ea typeface="Calibri"/>
              </a:rPr>
              <a:t>КОНТАКТНАЯ ИНФОРМАЦ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Прямоугольник 8"/>
          <p:cNvSpPr/>
          <p:nvPr/>
        </p:nvSpPr>
        <p:spPr>
          <a:xfrm>
            <a:off x="3873600" y="4165560"/>
            <a:ext cx="2811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254061"/>
                </a:solidFill>
                <a:latin typeface="Arial"/>
                <a:ea typeface="Arial"/>
              </a:rPr>
              <a:t>Тел</a:t>
            </a:r>
            <a:r>
              <a:rPr b="1" lang="en-US" sz="900" spc="-1" strike="noStrike">
                <a:solidFill>
                  <a:srgbClr val="254061"/>
                </a:solidFill>
                <a:latin typeface="Arial"/>
                <a:ea typeface="Arial"/>
              </a:rPr>
              <a:t>.: (831) 468-10-75</a:t>
            </a:r>
            <a:r>
              <a:rPr b="1" lang="ru-RU" sz="900" spc="-1" strike="noStrike">
                <a:solidFill>
                  <a:srgbClr val="254061"/>
                </a:solidFill>
                <a:latin typeface="Arial"/>
                <a:ea typeface="Arial"/>
              </a:rPr>
              <a:t>,</a:t>
            </a:r>
            <a:r>
              <a:rPr b="1" lang="en-US" sz="900" spc="-1" strike="noStrike">
                <a:solidFill>
                  <a:srgbClr val="254061"/>
                </a:solidFill>
                <a:latin typeface="Arial"/>
                <a:ea typeface="Arial"/>
              </a:rPr>
              <a:t> e-mail: innov-nn@mail.ru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Прямоугольник 4"/>
          <p:cNvSpPr/>
          <p:nvPr/>
        </p:nvSpPr>
        <p:spPr>
          <a:xfrm>
            <a:off x="1160640" y="1325520"/>
            <a:ext cx="525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Лазарев В.С., Мартиросян Б.П.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Педагогическая инноватика. Учебник для студентов высших учебных заведений, обучающихся по направлению 540600 (050700) «Педагогика». – М.: Просвещение, 2006. – 217 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Рисунок 17" descr=""/>
          <p:cNvPicPr/>
          <p:nvPr/>
        </p:nvPicPr>
        <p:blipFill>
          <a:blip r:embed="rId4"/>
          <a:stretch/>
        </p:blipFill>
        <p:spPr>
          <a:xfrm>
            <a:off x="2670120" y="3859200"/>
            <a:ext cx="127944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8T12:29:05Z</dcterms:created>
  <dc:creator>danilov@halfbudget.com</dc:creator>
  <dc:description/>
  <dc:language>en-US</dc:language>
  <cp:lastModifiedBy>Kafedra</cp:lastModifiedBy>
  <dcterms:modified xsi:type="dcterms:W3CDTF">2018-06-04T11:20:43Z</dcterms:modified>
  <cp:revision>12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6-01-26T00:00:00Z</vt:filetime>
  </property>
  <property fmtid="{D5CDD505-2E9C-101B-9397-08002B2CF9AE}" pid="3" name="Creator">
    <vt:lpwstr>Microsoft® PowerPoint® 2013</vt:lpwstr>
  </property>
  <property fmtid="{D5CDD505-2E9C-101B-9397-08002B2CF9AE}" pid="4" name="LastSaved">
    <vt:filetime>2018-02-08T00:00:00Z</vt:filetime>
  </property>
</Properties>
</file>