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6858000" cy="5145088"/>
  <p:notesSz cx="9144000" cy="5145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51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517968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517968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6D10-5551-466F-AA84-E254603F35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5E43-7075-4E7C-869F-BEC4C8BE3D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AC08-199E-45B8-8AD1-2E2AF859E4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4EB3-A788-409E-AAE7-3403885E67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0CAD-3F58-461F-9C9B-664E3FDA7C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6B7-50EA-41FF-8CFD-42F7040A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C8D-16E2-4C3E-B248-350ED318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8D0-79E5-49E8-AECD-1721000C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5B4-9D7B-4D06-8302-A6E2D018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6C05-53AA-4903-ADC2-E6ECCD9E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3843-25AC-4B9D-9469-6C692BAF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B2A1-D183-4068-88D9-E140CB50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B37A-835E-4943-95B8-16E8ED82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7482-59CD-4BE1-A62C-848EA4E7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7B17-4604-469D-8D60-91B55487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9A66-F638-4A12-8E74-81FA73A0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51A-3DC5-4B60-89F1-AF751BB3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2229-C6B1-4B68-BBA2-4629A8B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BC3C-EAD9-4D45-84B0-630F6BF3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031A-55DF-4162-A364-7A088B72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D04D-B186-4F13-9E54-3669B813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35E6-E544-4343-99EB-27C5385C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C0E7-1920-499B-B296-5DF8B09D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1857-FBD1-4911-A490-BAC7AD8A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23D5A-C040-4ECD-8866-64DE777D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4B6F-7F8B-4200-A9CE-670DFADC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574D-C63A-4C84-892D-0E92F381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A59-299C-46D4-B1BD-E3486FDD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8D65-B762-47C9-AF75-6E381872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8D04-C91F-460E-A7FA-49D049B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9BB6F-E153-4804-A6FF-21C8DF44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7B23B-A32D-4700-856F-8273C5DC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303A-C191-4A3B-AF12-1AF6391E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D11C-0EE0-456E-A5B7-642D2CEC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07C0-5D8E-4743-8209-8B31C45A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9C4C-CE2A-4E5D-992B-7A45BEC0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4DEFB-D897-4D03-94CE-6A9C7A3A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C58A-F37E-4CBA-949A-3630B703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30B-17EC-4847-8A2B-013A9156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21081-585A-49DE-8852-A20A3EE6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C2983-C757-4767-8692-9706774F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A4EE4-0057-4024-B896-E9B57380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83FA5-A204-443D-A748-3AE7FA14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5BDC-F387-4DB5-AEA9-9623F66F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4D20-0278-4526-BC78-EB9B6A73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00BFE-52E4-4A91-B60C-86A7FF5F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8933-B9E7-41F7-B032-DBD49B86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7AA20-318E-46BB-86C8-9C3D514F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4B9D-463F-4498-A152-70DEF71E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0F0-1F6D-4917-90CF-193CED00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CA38A-8746-42D4-8D31-AE9051B7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F273F-ACB4-4125-A8EE-2421D4E9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6453B-53AE-4273-A351-2A0D49D1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76F84-7784-4534-8EAF-FE6FC3CF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D3AD1-6FE6-43F8-93E0-DA32FCFF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B3E8-B229-468E-A752-D19E8136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3C05C-E02A-46AA-AABA-1D856899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DCF6E-70EF-462D-8CDF-ACE37FE6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94F5F-7068-446B-B5C7-DBA9FAD4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8A483-7A30-4938-B16F-6CADBC73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280-A163-41FD-B682-BF9A7859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A19AF-687E-4535-8124-1A5E478C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6C224-E7C7-4B6F-8EAD-3F9B2EBE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581D-F0BD-49E5-A2CD-3964FD18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B5CF-EB81-49A2-9C66-5EB76C1C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41F41-EB3F-474D-B646-A945D7D8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A337E-7DD5-48E1-81F1-AABBE6D9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FAB2F-DCB8-4060-B4B7-85240B17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607AA-6405-427F-8867-AF5D3201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0FF15-A3DA-42B6-88C7-A848A762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E00D-09E4-429C-A24D-34B1FC40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8D5-FAA7-4073-B23A-03716C08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AAD08-33E5-4B8C-AB52-34B960AD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A8276-235D-49B0-A0E3-9629E97B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9064A-7E05-4D45-9E71-18638505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1E3-7783-4317-86E6-C63B9E90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3D9-677B-4E5F-82AC-0732E415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5E9-765B-480A-9FA8-5D57A69ABAAC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0A0F-D58C-41F8-A2D2-6C815B942207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B86B-C9FA-4FCA-A3D7-B6BA294C93E8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1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D357-DF71-48A1-BF51-CEB84E2F5362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3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4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F606-D42D-44EB-A927-1D311EE5ACB3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6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7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47AE-0C99-42BF-8841-078E8585DB08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2240" y="1906560"/>
            <a:ext cx="6549840" cy="56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0" rIns="0" tIns="1008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Рабочая программа дисциплины (Б1.В.ДВ.3) </a:t>
            </a:r>
            <a:br>
              <a:rPr sz="1800"/>
            </a:br>
            <a:r>
              <a:rPr b="0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«Педагогическая инноватика»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2371680" y="115920"/>
            <a:ext cx="1943280" cy="1790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2371680" y="2470320"/>
            <a:ext cx="1943280" cy="18396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1"/>
          <a:stretch/>
        </p:blipFill>
        <p:spPr>
          <a:xfrm>
            <a:off x="2951280" y="2560680"/>
            <a:ext cx="779400" cy="963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2293920" y="3614760"/>
            <a:ext cx="20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Г.А. Игнатьева, доктор пед. наук, профессор, зав. кафедрой педагог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и андрагогики ГБОУ ДПО НИР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985680" y="1376280"/>
            <a:ext cx="14065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niro.nnov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Рисунок 13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801360" cy="6494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9"/>
          <p:cNvSpPr/>
          <p:nvPr/>
        </p:nvSpPr>
        <p:spPr>
          <a:xfrm>
            <a:off x="4314960" y="3728880"/>
            <a:ext cx="17809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e-mail: innov-nn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10" descr=""/>
          <p:cNvPicPr/>
          <p:nvPr/>
        </p:nvPicPr>
        <p:blipFill>
          <a:blip r:embed="rId3"/>
          <a:stretch/>
        </p:blipFill>
        <p:spPr>
          <a:xfrm>
            <a:off x="2425680" y="50004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6858000" cy="276120"/>
          </a:xfrm>
          <a:prstGeom prst="rect">
            <a:avLst/>
          </a:prstGeom>
          <a:solidFill>
            <a:srgbClr val="95b3d7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 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5" name="Схема 4" descr=""/>
          <p:cNvPicPr/>
          <p:nvPr/>
        </p:nvPicPr>
        <p:blipFill>
          <a:blip r:embed="rId1"/>
          <a:stretch/>
        </p:blipFill>
        <p:spPr>
          <a:xfrm>
            <a:off x="-23760" y="853920"/>
            <a:ext cx="6881760" cy="3260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1595520" y="3181320"/>
            <a:ext cx="5257800" cy="9169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2"/>
          <a:stretch/>
        </p:blipFill>
        <p:spPr>
          <a:xfrm>
            <a:off x="304920" y="2036880"/>
            <a:ext cx="1152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480" y="173160"/>
            <a:ext cx="6751800" cy="645840"/>
          </a:xfrm>
          <a:prstGeom prst="rect">
            <a:avLst/>
          </a:prstGeom>
          <a:solidFill>
            <a:srgbClr val="8eb4e3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:</a:t>
            </a:r>
            <a:br>
              <a:rPr sz="1400"/>
            </a:b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онятие, объект, предмет</a:t>
            </a:r>
            <a:br>
              <a:rPr sz="1400"/>
            </a:br>
            <a:endParaRPr b="0" lang="en-US" sz="1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9" name="Схема 4" descr=""/>
          <p:cNvPicPr/>
          <p:nvPr/>
        </p:nvPicPr>
        <p:blipFill>
          <a:blip r:embed="rId1"/>
          <a:stretch/>
        </p:blipFill>
        <p:spPr>
          <a:xfrm>
            <a:off x="36360" y="1103400"/>
            <a:ext cx="6755040" cy="31701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"/>
          <p:cNvPicPr/>
          <p:nvPr/>
        </p:nvPicPr>
        <p:blipFill>
          <a:blip r:embed="rId2"/>
          <a:stretch/>
        </p:blipFill>
        <p:spPr>
          <a:xfrm>
            <a:off x="304920" y="182520"/>
            <a:ext cx="1152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880" y="249120"/>
            <a:ext cx="6629400" cy="432000"/>
          </a:xfrm>
          <a:prstGeom prst="rect">
            <a:avLst/>
          </a:prstGeom>
          <a:solidFill>
            <a:srgbClr val="b9cde5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31320" bIns="0" anchor="t">
            <a:noAutofit/>
          </a:bodyPr>
          <a:p>
            <a:pPr marL="6192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ПЕДАГОГИЧЕСКАЯ ИННОВАТИКА</a:t>
            </a:r>
            <a:br>
              <a:rPr sz="1300"/>
            </a:b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Основная литература</a:t>
            </a:r>
            <a:endParaRPr b="0" lang="en-US" sz="1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object 4"/>
          <p:cNvSpPr/>
          <p:nvPr/>
        </p:nvSpPr>
        <p:spPr>
          <a:xfrm>
            <a:off x="950760" y="1320840"/>
            <a:ext cx="5712120" cy="558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bject 6"/>
          <p:cNvSpPr/>
          <p:nvPr/>
        </p:nvSpPr>
        <p:spPr>
          <a:xfrm>
            <a:off x="966960" y="2616120"/>
            <a:ext cx="5703840" cy="57168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0"/>
                </a:moveTo>
                <a:lnTo>
                  <a:pt x="265176" y="0"/>
                </a:lnTo>
                <a:lnTo>
                  <a:pt x="0" y="265175"/>
                </a:lnTo>
                <a:lnTo>
                  <a:pt x="265176" y="530351"/>
                </a:lnTo>
                <a:lnTo>
                  <a:pt x="7176515" y="530351"/>
                </a:lnTo>
                <a:lnTo>
                  <a:pt x="71765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object 7"/>
          <p:cNvSpPr/>
          <p:nvPr/>
        </p:nvSpPr>
        <p:spPr>
          <a:xfrm>
            <a:off x="933480" y="2017800"/>
            <a:ext cx="5740200" cy="450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bject 13"/>
          <p:cNvSpPr/>
          <p:nvPr/>
        </p:nvSpPr>
        <p:spPr>
          <a:xfrm>
            <a:off x="936720" y="2676600"/>
            <a:ext cx="5734080" cy="5713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9"/>
          <p:cNvSpPr/>
          <p:nvPr/>
        </p:nvSpPr>
        <p:spPr>
          <a:xfrm>
            <a:off x="46080" y="1231920"/>
            <a:ext cx="865080" cy="2397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Рисунок 23" descr=""/>
          <p:cNvPicPr/>
          <p:nvPr/>
        </p:nvPicPr>
        <p:blipFill>
          <a:blip r:embed="rId1"/>
          <a:stretch/>
        </p:blipFill>
        <p:spPr>
          <a:xfrm>
            <a:off x="228600" y="1946160"/>
            <a:ext cx="500040" cy="6937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" descr=""/>
          <p:cNvPicPr/>
          <p:nvPr/>
        </p:nvPicPr>
        <p:blipFill>
          <a:blip r:embed="rId2"/>
          <a:stretch/>
        </p:blipFill>
        <p:spPr>
          <a:xfrm>
            <a:off x="214200" y="1206360"/>
            <a:ext cx="528840" cy="6987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4"/>
          <p:cNvSpPr/>
          <p:nvPr/>
        </p:nvSpPr>
        <p:spPr>
          <a:xfrm>
            <a:off x="1106640" y="2085840"/>
            <a:ext cx="544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идактика: Учебник для вузов. Стандарт третьего поколения. СПб.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итер, 2017.- 720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066680" y="2709720"/>
            <a:ext cx="531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6" descr=""/>
          <p:cNvPicPr/>
          <p:nvPr/>
        </p:nvPicPr>
        <p:blipFill>
          <a:blip r:embed="rId3"/>
          <a:stretch/>
        </p:blipFill>
        <p:spPr>
          <a:xfrm>
            <a:off x="201600" y="2771640"/>
            <a:ext cx="527040" cy="675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9"/>
          <p:cNvSpPr/>
          <p:nvPr/>
        </p:nvSpPr>
        <p:spPr>
          <a:xfrm>
            <a:off x="88920" y="4132440"/>
            <a:ext cx="6629400" cy="296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             </a:t>
            </a: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КОНТАКТНАЯ ИНФОРМ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3873600" y="4165560"/>
            <a:ext cx="281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Тел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.: (831) 468-10-75</a:t>
            </a: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,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 e-mail: innov-nn@mail.r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1160640" y="1325520"/>
            <a:ext cx="52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Рисунок 17" descr=""/>
          <p:cNvPicPr/>
          <p:nvPr/>
        </p:nvPicPr>
        <p:blipFill>
          <a:blip r:embed="rId4"/>
          <a:stretch/>
        </p:blipFill>
        <p:spPr>
          <a:xfrm>
            <a:off x="2670120" y="3859200"/>
            <a:ext cx="12794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2:29:05Z</dcterms:created>
  <dc:creator>danilov@halfbudget.com</dc:creator>
  <dc:description/>
  <dc:language>en-US</dc:language>
  <cp:lastModifiedBy>Kafedra</cp:lastModifiedBy>
  <dcterms:modified xsi:type="dcterms:W3CDTF">2018-06-04T11:20:43Z</dcterms:modified>
  <cp:revision>1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6-01-26T00:00:00Z</vt:filetime>
  </property>
  <property fmtid="{D5CDD505-2E9C-101B-9397-08002B2CF9AE}" pid="3" name="Creator">
    <vt:lpwstr>Microsoft® PowerPoint® 2013</vt:lpwstr>
  </property>
  <property fmtid="{D5CDD505-2E9C-101B-9397-08002B2CF9AE}" pid="4" name="LastSaved">
    <vt:filetime>2018-02-08T00:00:00Z</vt:filetime>
  </property>
</Properties>
</file>