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B443-3A69-4662-9799-1E74FE52A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F56B-8BCB-4A6A-B232-3A2D8BF0B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9725-A763-4AFC-90A0-40D7CECA4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BFF3-0892-485C-B949-68472D4EF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931B-022A-46A5-9785-7AC0DC6A6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2659-82A0-47F1-B69B-07BE4D473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B757-4DA2-482D-A5C0-B917C3205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6C9B-40D5-46AF-89FF-7946BC8E3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AEE9-6E74-4BE7-AC36-5CD896B91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CE5B-688E-41B4-B7C8-6A4A7ED19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2937-F721-446F-89E1-5EB666F48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3444-FB80-4779-B9B0-826D6113E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FC3AF-C596-462F-AD88-11232714AF2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3d_1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>
            <a:off x="1042920" y="907920"/>
            <a:ext cx="7345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Arial"/>
              </a:rPr>
              <a:t>«</a:t>
            </a:r>
            <a:r>
              <a:rPr b="1" i="1" lang="ru-RU" sz="3200" spc="-1" strike="noStrike">
                <a:solidFill>
                  <a:srgbClr val="cc0000"/>
                </a:solidFill>
                <a:latin typeface="Arial"/>
              </a:rPr>
              <a:t>Экологический светофор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1042920" y="5805360"/>
            <a:ext cx="77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Разработала учитель МБОУ СОШ №9 Савина Н.Б., октябрь 2011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1332000" y="4680000"/>
            <a:ext cx="717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00"/>
                </a:solidFill>
                <a:latin typeface="Arial"/>
              </a:rPr>
              <a:t>Урок - игра для 5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155_1024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3d_1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6" descr="000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00002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0" y="20520"/>
            <a:ext cx="9144000" cy="68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Планета Земля и Луна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Центр галактики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pic>
        <p:nvPicPr>
          <p:cNvPr id="46" name="zdravstvuy_skazka.mp3" descr=""/>
          <p:cNvPicPr/>
          <p:nvPr/>
        </p:nvPicPr>
        <p:blipFill>
          <a:blip r:embed="rId2"/>
          <a:stretch/>
        </p:blipFill>
        <p:spPr>
          <a:xfrm>
            <a:off x="357120" y="7142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ANd9GcTlgCCR_sYgV8Cng8KJyAYCEq00vdSyk0xpwvnrK1dbxHT_ON2Pqg"/>
          <p:cNvPicPr/>
          <p:nvPr/>
        </p:nvPicPr>
        <p:blipFill>
          <a:blip r:embed="rId1"/>
          <a:stretch/>
        </p:blipFill>
        <p:spPr>
          <a:xfrm>
            <a:off x="0" y="-15840"/>
            <a:ext cx="914400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Солнечная система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ANd9GcTRRAWpz4lq2QRiKUEtkdBZJq4qTgvl57b5tU86neR8IVrKFLf10Q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8" descr="155_1024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16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556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2654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7" descr="14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6T20:20:10Z</dcterms:created>
  <dc:creator>1</dc:creator>
  <dc:description/>
  <dc:language>en-US</dc:language>
  <cp:lastModifiedBy>Щелкунова Н.А.</cp:lastModifiedBy>
  <dcterms:modified xsi:type="dcterms:W3CDTF">2011-10-24T08:08:27Z</dcterms:modified>
  <cp:revision>12</cp:revision>
  <dc:subject/>
  <dc:title>Слайд 1</dc:title>
</cp:coreProperties>
</file>