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274B-189C-408E-84F1-1A2FAB8418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BED7-A6CE-4D31-8FCB-BDCE59EC83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31C9-98B2-4E53-9D46-2DF8180B6A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C124-238B-49D1-9DE9-B19C0E16F7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0F20-7CDF-482A-9DA1-3386DE528F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BD43-DDC1-4D5B-9857-B31BC98EDF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2290-8F42-46A7-9A63-18536A1BBB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2666-AA90-450C-B30C-A44AE79A16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D4AF-E776-47AC-BC3C-009DECCAB0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2ED9-97CA-4AC8-BF11-3AAA2EB0AD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A513-BF3D-4C84-9C5D-D2991AEF97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A952-E5AE-4139-95BA-BD7968A445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B575-B928-466D-A481-17D36651E3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D1F8-B6EF-464A-A019-2AA2D0B898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F306-46C8-4A99-9BF3-0291F6078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048E-ADD3-4D74-91D0-0797A8ED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382C-586C-4DDF-A025-2C278B8BE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A700-F856-413A-A82A-980232679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1949-235F-4901-BE1D-23F9850F1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9384-5164-443D-92C4-CC066338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B08E-7140-46D0-8089-7B9EDB48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9B7A-5103-44B8-95E8-7D5E22CD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DA27-C04F-484C-8126-1286697C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CE3BA-B931-4A8F-8907-7678B979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1BCE-224B-454A-A9E8-5D0EC198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1F5C-C930-4663-92A7-0159C5C6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013B-E77A-4499-ADCF-A3E3DD51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DCB0-7E8F-4B08-A145-5E562E39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6564-F340-4619-A8AE-6796794F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12B1-E7A8-44FE-8E2E-20FC56FC9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4197-C053-451D-A26A-4D907B6B5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D0466-7873-4DD5-BDD4-72CFE93AA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73957-0EE2-4148-95E4-D3CFC076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45817-CC43-423D-9472-6C4642E1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FBDC8-E57A-42F7-8AF2-35D44813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82D62-B967-4A00-B28C-4F1BE807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F736-375C-4E10-967A-282408CE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9A8B3-287B-416A-BB0D-74653B70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03613-C064-4825-81DF-624266EB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B1433-A9B4-4293-8D0F-EA4043AD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DC8CA-29CC-45C3-B34F-6051EB62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13DAD-38E9-4A5A-85FA-594E8F0C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F1665-F10C-4346-8B84-D223BB514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2DB2D-6580-4BB7-BE53-3501EC55E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AEF83-4432-43D7-903A-7719248FB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7B66C-EBA0-4741-B0DF-67E0C939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4623B-E40C-4F00-B350-0A1DAEAB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9555-40C3-4D4A-A6EF-86754561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BC463-E866-49F6-ACB8-90F916DC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C51DF-148A-48D6-A84B-2FD7733D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BFFCA-BA76-4FA1-A3A7-9FD9DD43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E954B-5949-4569-A177-2DFCEA2D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F7FD6-F51E-495E-AE40-772BE319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4388C-6779-4B41-A742-248BCB7F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A77DA-2158-4FED-B2E3-4D963398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F260D-9D12-42FD-8EEF-9D13A643D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6B932-AAB8-4685-B509-EAF2565F5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CB55C-4C15-4402-8C97-F1A67991E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D665-47A3-4CF5-BAEE-59CD4C25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84AD8-56E1-400D-B27C-39C16373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47F5F-C1C3-472E-9892-DE9174D9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CF8E8-91B8-4A1C-8426-ECD781F8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C1977-1E94-42BC-911F-00079C66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7B5C8-811F-42A6-88DE-5F0DF21A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E41D9-EBB2-4CDF-98CD-2905753E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E6105-9C20-4553-A124-1E72B8C0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BB356-A683-4E5F-AF12-EC66E74D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A8D93-34BB-4EDF-9B43-48856C17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CE005-D563-4B72-8DB0-6FA3E6282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0F74-A759-44E4-812E-FC6E869F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F473F-536A-4D1B-80B5-EA732A644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C8B51-D5A9-4BAB-8936-4EDDD328A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16BC3-F224-4473-AAC9-0B1B32F5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D52BC-5F91-45D9-8FDF-5AA13F42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CBAE7-70D9-45DE-BD97-7DDF5D65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32966-C86B-4740-85BC-07D83E32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E608B-F870-459E-A049-12AB937A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CE239-FBA0-4B1B-B8FA-BAB42E7A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4C2EB-73A6-4951-AC67-35261A6B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94C5A-F060-4E50-8BD2-C333AF6B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E655-1945-4F89-8471-6DBCA85A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5FE8A-40F3-4DFA-A213-43EDACFD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ED1B1-31ED-44AB-8D13-C56958A40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21C32-EAED-44AF-B3F5-6F0CF3167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FD3CF-373F-457F-9CFA-4414EFA8C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A4673-DFCD-491B-B49E-8B6CEF94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CE57C-C028-4C89-9461-E8DE664C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D16DE-BBE4-405E-8748-95ECA5F8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8DF55-5CFD-48DC-B907-2C4305A0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E5C03-49AC-4774-B610-9427B81A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A2DB9-22F3-4258-B248-BD48E747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41BF-739F-4E49-B927-4AE1F1E6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26DF7-B8CF-4354-90D8-A2FEE665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ECD66-CE27-486E-BC85-EF8B8390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5B340-7D15-497C-ACB3-34E8BF05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99F1F-2727-4E86-BA5C-506D0F65B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13B91-2850-4797-9C7A-E29FF9779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8D822-E5BC-4F86-B5D6-8CACD096C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540BB-EA28-4E9C-ABF4-1BD6353D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F89AE-9741-43E5-BBF6-6C07D4EE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7A216-55A0-40F2-8DE8-1DCAB676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7823F-E719-4201-AF8B-863D8C7C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AED2-4EA4-41E1-82B6-E56962F3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69E7D-CFF4-4AF7-962D-FE146175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6A9E2-B38A-40F3-B29B-079E4BA4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0EB84-9FA9-450C-8324-0B05EFE5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3E2E1-7AAF-44CA-9FA5-4D379638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AB68D-8974-4C7B-A503-38921339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93034-B381-4858-9297-677F204D2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9D117-3B21-4BB1-AAB7-20364F5ED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FDD6-A693-4D41-A57F-EA238F6A6F7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7326-EA09-490E-9771-3DA4F4E62BE5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C59B-7F0B-4971-AF8B-9433F1B23660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4230-6B6C-489C-9389-978627698C3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46FF-F550-430A-85FD-E69EAEE9556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2DB9-EEF5-4319-8606-382203E3E21F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21E2-29BA-4526-82F2-D5EF6BA5723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9902-BECE-483D-8BC3-3E2C0C0D036C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682560" y="950760"/>
            <a:ext cx="7785000" cy="26276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93372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Зызыкина И.Ю., заместитель директор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МБОУ Афонинская СШ</a:t>
            </a:r>
            <a:br>
              <a:rPr sz="1800"/>
            </a:b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357200"/>
            <a:ext cx="82296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2060"/>
                </a:solidFill>
                <a:latin typeface="Lucida Sans Unicode"/>
              </a:rPr>
              <a:t>Повышение профессиональной компетентности в области мотивации учебной деятельности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Участие в работе МРЦ «Организация психолого-педагогического сопровождения участников образовательного процесса» (МБОУ СШ № 6 г. Кстово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Участие в работе Центра профориентации «Твой жизненный выбор» (МБУ ДО ЦВР г. Кстово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Участие в семинаре «Диагностика профессиональных дефицитов педагогов. Анализ соответствия результатов диагностик профессиональной компетентности учителей выявленным дефицитам обучающихся» (МБОУ Лицей №7 г. Кстово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Заголовок 2" descr=""/>
          <p:cNvPicPr/>
          <p:nvPr/>
        </p:nvPicPr>
        <p:blipFill>
          <a:blip r:embed="rId1"/>
          <a:stretch/>
        </p:blipFill>
        <p:spPr>
          <a:xfrm>
            <a:off x="450720" y="92160"/>
            <a:ext cx="824256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714320"/>
            <a:ext cx="8229600" cy="42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2060"/>
                </a:solidFill>
                <a:latin typeface="Lucida Sans Unicode"/>
              </a:rPr>
              <a:t>Повышение профессиональной компетентности в обеспечении достижения запланированных результатов в процессе проведения учебного занятия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ая познавательная деятельность педагогов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индивидуальных образовательных маршрутов педагогов по формированию профессиональных компетенций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ен опытом по организации продуктивной и результативной деятельности обучающихся на учебном занятии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ервизии – взаимопосещение уроков с последующим анализо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наставничества молодых специалистов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Заголовок 2" descr=""/>
          <p:cNvPicPr/>
          <p:nvPr/>
        </p:nvPicPr>
        <p:blipFill>
          <a:blip r:embed="rId1"/>
          <a:stretch/>
        </p:blipFill>
        <p:spPr>
          <a:xfrm>
            <a:off x="426960" y="244440"/>
            <a:ext cx="828360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2" descr=""/>
          <p:cNvPicPr/>
          <p:nvPr/>
        </p:nvPicPr>
        <p:blipFill>
          <a:blip r:embed="rId1"/>
          <a:stretch/>
        </p:blipFill>
        <p:spPr>
          <a:xfrm>
            <a:off x="920880" y="146160"/>
            <a:ext cx="7802280" cy="146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6" name=""/>
          <p:cNvGraphicFramePr/>
          <p:nvPr/>
        </p:nvGraphicFramePr>
        <p:xfrm>
          <a:off x="428760" y="1785960"/>
          <a:ext cx="8501040" cy="4541760"/>
        </p:xfrm>
        <a:graphic>
          <a:graphicData uri="http://schemas.openxmlformats.org/drawingml/2006/table">
            <a:tbl>
              <a:tblPr/>
              <a:tblGrid>
                <a:gridCol w="515880"/>
                <a:gridCol w="2535120"/>
                <a:gridCol w="1525680"/>
                <a:gridCol w="1307880"/>
                <a:gridCol w="2616480"/>
              </a:tblGrid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тственный исполнитель, ресур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 испол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жидаемые результаты исполнения 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Г. Развитие компетентностей в области дифференциации и индивидуального развития обучающихся для достижения образовательных результа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дирек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П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 –май 2019-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о умение создавать дидактический инструментарий, используемый для  дифференциации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Г. Развитие компетентностей в области мотивации учеб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дирек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П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 –май 2019-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о умение создавать ситуации, обеспечивающие осознанное отношение к изучаемому предмету на основе  профессионального выбора обучающихс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Г. Развитие компетентностей в осуществлении контроля и оценки учебных достижений, текущих и итоговых образовательных результат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дирек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П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 –май 2019-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о умение осуществлять объективную оценку знаний обучающихся на основе различных методов контроля и диагнос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000080"/>
            <a:ext cx="82296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1. </a:t>
            </a: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Охват программой МР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Внешнее формальное обучение – 40% педагогов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Внешнее неформальное обучение – 70% педагогов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Внутришкольное формальное обучение – 100% педагогов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Внутришкольное неформальное обучение – 100% педагогов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Информальное образование – 100% педагогов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2. Положительная динамика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профессиональной компетентности педагогов по выявленным дефицитам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– до </a:t>
            </a: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4 баллов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(по шкале диагностической методики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3. Эффект от реализации программы МР– 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положительная динамика образовательных результатов обучающихся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по итогам ВПР;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по итогам ГИА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Заголовок 2" descr=""/>
          <p:cNvPicPr/>
          <p:nvPr/>
        </p:nvPicPr>
        <p:blipFill>
          <a:blip r:embed="rId1"/>
          <a:stretch/>
        </p:blipFill>
        <p:spPr>
          <a:xfrm>
            <a:off x="311040" y="195120"/>
            <a:ext cx="851544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500040" y="214272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 Unicode"/>
              </a:rPr>
              <a:t>Самооценка и экспертная оценка сформированности компетентности педагогов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Lucida Sans Unicode"/>
              </a:rPr>
              <a:t>Диагностическая методика лаборатории информационно-методического обеспечения выравнивания образовательных результатов ГБОУ ДПО НИРО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Заголовок 2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242560" cy="547560"/>
          </a:xfrm>
          <a:prstGeom prst="rect">
            <a:avLst/>
          </a:prstGeom>
          <a:ln w="0">
            <a:noFill/>
          </a:ln>
        </p:spPr>
      </p:pic>
      <p:pic>
        <p:nvPicPr>
          <p:cNvPr id="382" name="Содержимое 3" descr=""/>
          <p:cNvPicPr/>
          <p:nvPr/>
        </p:nvPicPr>
        <p:blipFill>
          <a:blip r:embed="rId2"/>
          <a:stretch/>
        </p:blipFill>
        <p:spPr>
          <a:xfrm>
            <a:off x="-6480" y="0"/>
            <a:ext cx="9156960" cy="61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79280" y="476280"/>
            <a:ext cx="89647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Sans Unicode"/>
              </a:rPr>
              <a:t>Перечень дефицитов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1.1. Умение формировать цели и результаты программ учебных дисциплин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1.2. </a:t>
            </a:r>
            <a:r>
              <a:rPr b="0" lang="en-US" sz="1400" spc="-1" strike="noStrike">
                <a:solidFill>
                  <a:srgbClr val="232323"/>
                </a:solidFill>
                <a:latin typeface="Lucida Sans Unicode"/>
              </a:rPr>
              <a:t>Умение разработать собственные методические и дидактические материалы, обеспечивающие достижение планируемых результатов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1.3. Умение планировать педагогическую деятельность при реализации программ с учетом особенностей обучающихся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2.1. Умение учитывать образовательные предметные дефициты обучающихся при отборе содержания учебного материалы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2.2. </a:t>
            </a:r>
            <a:r>
              <a:rPr b="1" lang="en-US" sz="1400" spc="-1" strike="noStrike">
                <a:solidFill>
                  <a:srgbClr val="990000"/>
                </a:solidFill>
                <a:latin typeface="Lucida Sans Unicode"/>
              </a:rPr>
              <a:t>Умение создавать дидактический инструментарий, используемый для дифференциации обучения (40%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3.2. </a:t>
            </a:r>
            <a:r>
              <a:rPr b="1" lang="en-US" sz="1400" spc="-1" strike="noStrike">
                <a:solidFill>
                  <a:srgbClr val="990000"/>
                </a:solidFill>
                <a:latin typeface="Lucida Sans Unicode"/>
              </a:rPr>
              <a:t>Умение создавать ситуации, обеспечивающие осознанное отношение к изучаемому предмету на основе профессионального выбора  (50%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3.3. </a:t>
            </a:r>
            <a:r>
              <a:rPr b="0" lang="en-US" sz="1400" spc="-1" strike="noStrike">
                <a:solidFill>
                  <a:srgbClr val="232323"/>
                </a:solidFill>
                <a:latin typeface="Lucida Sans Unicode"/>
              </a:rPr>
              <a:t>Умение привлекать потенциал родителей к обеспечению необходимого уровня позитивной мотивации к учебной деятельности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4.3. Умение организовывать продуктивную и результативную деятельность обучающихся на учебном занятии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5.1. Умение использовать системные формы и методы контроля учебных достижений, текущих и итоговых образовательных результатов обучающихся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5.2. </a:t>
            </a:r>
            <a:r>
              <a:rPr b="1" lang="en-US" sz="1400" spc="-1" strike="noStrike">
                <a:solidFill>
                  <a:srgbClr val="990000"/>
                </a:solidFill>
                <a:latin typeface="Lucida Sans Unicode"/>
              </a:rPr>
              <a:t>Умение осуществлять объективную оценку знаний обучающихся на основе различных методов контроля и диагностики(40%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5.3. Умение осуществлять анализ образовательных результатов и корректировать образовательную деятельность в соответствии с его итогами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Заголовок 1" descr=""/>
          <p:cNvPicPr/>
          <p:nvPr/>
        </p:nvPicPr>
        <p:blipFill>
          <a:blip r:embed="rId1"/>
          <a:stretch/>
        </p:blipFill>
        <p:spPr>
          <a:xfrm>
            <a:off x="463680" y="-85680"/>
            <a:ext cx="824220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0" y="0"/>
            <a:ext cx="8978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Lucida Sans Unicode"/>
              </a:rPr>
              <a:t>Категории педагог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ая соединительная линия 8"/>
          <p:cNvSpPr/>
          <p:nvPr/>
        </p:nvSpPr>
        <p:spPr>
          <a:xfrm>
            <a:off x="1214280" y="5500800"/>
            <a:ext cx="67154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ая соединительная линия 11"/>
          <p:cNvSpPr/>
          <p:nvPr/>
        </p:nvSpPr>
        <p:spPr>
          <a:xfrm flipV="1">
            <a:off x="1143000" y="642960"/>
            <a:ext cx="1440" cy="485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18"/>
          <p:cNvSpPr/>
          <p:nvPr/>
        </p:nvSpPr>
        <p:spPr>
          <a:xfrm>
            <a:off x="3059280" y="5572080"/>
            <a:ext cx="4370400" cy="35712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Психологическая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готов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Прямая со стрелкой 20"/>
          <p:cNvCxnSpPr/>
          <p:nvPr/>
        </p:nvCxnSpPr>
        <p:spPr>
          <a:xfrm>
            <a:off x="6643800" y="5857920"/>
            <a:ext cx="714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0" name="Прямая со стрелкой 22"/>
          <p:cNvCxnSpPr/>
          <p:nvPr/>
        </p:nvCxnSpPr>
        <p:spPr>
          <a:xfrm flipH="1" flipV="1">
            <a:off x="1928520" y="5785560"/>
            <a:ext cx="7149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1" name="Прямоугольник 26"/>
          <p:cNvSpPr/>
          <p:nvPr/>
        </p:nvSpPr>
        <p:spPr>
          <a:xfrm>
            <a:off x="7715160" y="5715000"/>
            <a:ext cx="1000080" cy="50004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Высокий 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27"/>
          <p:cNvSpPr/>
          <p:nvPr/>
        </p:nvSpPr>
        <p:spPr>
          <a:xfrm>
            <a:off x="500040" y="5643720"/>
            <a:ext cx="1000080" cy="50004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Низкий 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28"/>
          <p:cNvSpPr/>
          <p:nvPr/>
        </p:nvSpPr>
        <p:spPr>
          <a:xfrm rot="16200000">
            <a:off x="-928440" y="2928600"/>
            <a:ext cx="3643200" cy="35748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Профессиональная готов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4" name="Прямая со стрелкой 29"/>
          <p:cNvCxnSpPr/>
          <p:nvPr/>
        </p:nvCxnSpPr>
        <p:spPr>
          <a:xfrm flipV="1">
            <a:off x="927720" y="999360"/>
            <a:ext cx="108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5" name="Прямая со стрелкой 30"/>
          <p:cNvCxnSpPr/>
          <p:nvPr/>
        </p:nvCxnSpPr>
        <p:spPr>
          <a:xfrm flipH="1">
            <a:off x="928440" y="5072040"/>
            <a:ext cx="216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6" name="Прямоугольник 31"/>
          <p:cNvSpPr/>
          <p:nvPr/>
        </p:nvSpPr>
        <p:spPr>
          <a:xfrm>
            <a:off x="142920" y="357120"/>
            <a:ext cx="1071360" cy="50004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Высокий 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ая соединительная линия 50"/>
          <p:cNvSpPr/>
          <p:nvPr/>
        </p:nvSpPr>
        <p:spPr>
          <a:xfrm flipH="1">
            <a:off x="4642920" y="714240"/>
            <a:ext cx="1800" cy="478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ая соединительная линия 52"/>
          <p:cNvSpPr/>
          <p:nvPr/>
        </p:nvSpPr>
        <p:spPr>
          <a:xfrm>
            <a:off x="1143000" y="2928960"/>
            <a:ext cx="6357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оугольник 62"/>
          <p:cNvSpPr/>
          <p:nvPr/>
        </p:nvSpPr>
        <p:spPr>
          <a:xfrm>
            <a:off x="4716360" y="692280"/>
            <a:ext cx="3959280" cy="216684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Успешные: могут и хотя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Мотивированы, изменения представляют личностную ц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-Успешны в  освоении образовательных технологий на основе личных убеждений, глубокого осмысления теоретических основ, опыта реальных ситу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(4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63"/>
          <p:cNvSpPr/>
          <p:nvPr/>
        </p:nvSpPr>
        <p:spPr>
          <a:xfrm>
            <a:off x="1285920" y="642960"/>
            <a:ext cx="3286080" cy="221472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Пассивные: могут, но не хотя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Могут применять новые технологии в своей деятельности, но это зависит от формы стимул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Изменения воспринимают как необходим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(2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64"/>
          <p:cNvSpPr/>
          <p:nvPr/>
        </p:nvSpPr>
        <p:spPr>
          <a:xfrm>
            <a:off x="4714920" y="3000240"/>
            <a:ext cx="3929040" cy="242892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00"/>
                </a:solidFill>
                <a:uFillTx/>
                <a:latin typeface="Comic Sans MS"/>
              </a:rPr>
              <a:t>Активные: хотят, но не могу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mic Sans MS"/>
              </a:rPr>
              <a:t>-Позитивно относятся к изменениям, изменения представляют личностную ц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mic Sans MS"/>
              </a:rPr>
              <a:t>-Дублируют новые подходы в своей деятельности без теоретического их осмысления, не умеют их творчески перерабаты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(2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65"/>
          <p:cNvSpPr/>
          <p:nvPr/>
        </p:nvSpPr>
        <p:spPr>
          <a:xfrm>
            <a:off x="1285920" y="3357720"/>
            <a:ext cx="3286080" cy="200016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Comic Sans MS"/>
              </a:rPr>
              <a:t>Инертные: не хотят и не могу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Comic Sans MS"/>
              </a:rPr>
              <a:t>-Используют старые формы и методы деятельности, имитируют процесс внедрения нов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Comic Sans MS"/>
              </a:rPr>
              <a:t>-Не мотивированы на изменения, действуют только по требованию руко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(2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000080"/>
            <a:ext cx="82296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Lucida Sans Unicode"/>
              </a:rPr>
              <a:t>повышение уровня профессиональных компетентностей  учителей для достижения стабильно положительных образовательных результатов обучающихся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Компетентности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в области разработки и реализации образовательных программ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Компетентности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в области дифференциации и индивидуализации обучения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Компетентности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в области мотивации учебной деятельности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Компетентности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в осуществлении контроля и оценки учебных достижений, текущих и итоговых образовательных результатов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Заголовок 2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000080"/>
            <a:ext cx="82296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1. По целевым установкам: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поддерживающее, обеспечивающее функционирование обучени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развивающее обучение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2. По формам организации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2.1. </a:t>
            </a:r>
            <a:r>
              <a:rPr b="0" lang="ru-RU" sz="1900" spc="-1" strike="noStrike" u="sng">
                <a:solidFill>
                  <a:srgbClr val="000000"/>
                </a:solidFill>
                <a:uFillTx/>
                <a:latin typeface="Lucida Sans Unicode"/>
              </a:rPr>
              <a:t>Внешнее обучение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по программам ГБОУ ДПО НИРО (план-график 2019-2020) – на бюджетной основ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обучение на территории учреждений-партнеров г. Кстово (МБОУ Лицей № 7, МБОУ СШ № 6, МБУ ДО ЦВР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2.2. </a:t>
            </a:r>
            <a:r>
              <a:rPr b="0" lang="ru-RU" sz="1900" spc="-1" strike="noStrike" u="sng">
                <a:solidFill>
                  <a:srgbClr val="000000"/>
                </a:solidFill>
                <a:uFillTx/>
                <a:latin typeface="Lucida Sans Unicode"/>
              </a:rPr>
              <a:t>Внутришкольное обучение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обучение с приглашением специалистов ГБОУ ДПО НИРО (по договору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обучение в районе по плану ИМО департамента образования Кстовского муниципального района (занятия РМО, творческих и проблемных групп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обучающие семинары, практикумы (педагоги и руководители ОО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450720" y="55440"/>
            <a:ext cx="824256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357120" y="1571760"/>
            <a:ext cx="83296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2060"/>
                </a:solidFill>
                <a:latin typeface="Lucida Sans Unicode"/>
              </a:rPr>
              <a:t>Повышение профессиональной компетентности и в области дифференциации и индивидуализации обучения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"Дифференцированный подход в подготовке учащихся к ЕГЭ по русскому языку", 36 часов – 1 чел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"Дифференцированный подход в подготовке учащихся к ЕГЭ по обществознанию ", 36 часов – 1 чел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"Методика подготовки к ЕГЭ и ОГЭ по истории и обществознанию", 18 часов – 1 чел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"Организация подготовки выпускников 11 классов к ГИА по математике", 18 часов – 1 чел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"Проектирование учебного занятия по предметам естественнонаучного цикла в условиях реализации ФГОС", 36 часов – 1 чел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Заголовок 2" descr=""/>
          <p:cNvPicPr/>
          <p:nvPr/>
        </p:nvPicPr>
        <p:blipFill>
          <a:blip r:embed="rId1"/>
          <a:stretch/>
        </p:blipFill>
        <p:spPr>
          <a:xfrm>
            <a:off x="420840" y="201600"/>
            <a:ext cx="824220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57120" y="1571760"/>
            <a:ext cx="83296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Lucida Sans Unicode"/>
              </a:rPr>
              <a:t>Повышение профессиональной компетентности в осуществлении контроля и оценки учебных достижений, текущих и итоговых образовательных результатов обучающихс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Заявка на обучение педагогов и руководителей ОО на внебюджетной основе (ГБОУ ДПО НИРО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Заголовок 2" descr=""/>
          <p:cNvPicPr/>
          <p:nvPr/>
        </p:nvPicPr>
        <p:blipFill>
          <a:blip r:embed="rId1"/>
          <a:stretch/>
        </p:blipFill>
        <p:spPr>
          <a:xfrm>
            <a:off x="420840" y="201600"/>
            <a:ext cx="824220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3T08:03:20Z</dcterms:created>
  <dc:creator>Владелец</dc:creator>
  <dc:description/>
  <dc:language>en-US</dc:language>
  <cp:lastModifiedBy>*</cp:lastModifiedBy>
  <dcterms:modified xsi:type="dcterms:W3CDTF">2019-12-09T07:31:41Z</dcterms:modified>
  <cp:revision>98</cp:revision>
  <dc:subject/>
  <dc:title>Программа методической работы</dc:title>
</cp:coreProperties>
</file>