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E33E-AACC-469D-A069-25004CD6A4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FE56-4303-436C-86A3-C77173437B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D87A-B4A8-45A6-BEA8-AE614485AB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3E9B-CEDA-434B-A8E4-34CD8E0B89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1560-4AF7-4C52-8301-523C90DB08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DD2B-3919-4EB8-9F0E-2D1DB85274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FCE6-0CE9-4F07-848E-D8EDA459BE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3ECE-E1CC-437E-B1E7-AE36515AAB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F794-94D8-4A2F-B3EB-DEBC512A74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84DA-7156-4753-8416-0A3E341207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3C4E-14CB-48CB-8CE9-9A4DDB377D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4A66-E5DF-46C6-AFE4-343DE77EF7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678F-D728-4B91-B17F-02EFAA6244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6C14-2B84-4279-9103-1B9CD9529F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9AD-E3FD-4895-94DE-D4239C7E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8103-7E61-456C-8566-E271B5B0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B1DF-08A5-463A-84A3-6D7147BB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462-F721-45B1-BF3B-5E0333B4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A060-FE49-4388-850C-2E0EC374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DFD0-CB18-4F7E-B633-85203CBC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F59E-7E0B-412C-A389-F4D8F387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AC93-8C06-4F05-9E3E-CB8FEC29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5561-7CCC-4B68-8124-6F152EBF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87F9-1829-4D55-A817-359CBE39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882B-C34B-439D-82E5-E2AA3553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34EA-72D8-4FE4-B460-17F22F8A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FA45-982B-47DB-8554-CC686E3A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16A4-6BBF-464E-A96E-5386A623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0CB0-8946-4E75-846C-EA8EB854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66AF-DD66-467C-A583-D151FB9D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1493-5897-4259-8722-6D2DD9DF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A887C-F7E1-4759-802C-EE9A3ED4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CB6EB-2F61-4719-BB4C-FD50B605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1E113-C50C-4923-912A-EF58D526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1F80-2E7C-4784-AC9E-46E89D23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58527-FFA3-4129-8972-0287BF1F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961-0100-4BA5-86CF-B6EB1A03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192E7-4E06-4960-BE22-297F511B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4641B-362A-4326-B23C-368634D6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E759A-6D3F-404B-AE06-36E6BB8B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485C6-6DE4-41A8-A57B-37AB0067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88552-DF2C-42A0-BC97-BD42BEB7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AB88F-8DEE-454E-8F0A-373094BC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F4916-0AC3-4562-9601-A76B0431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80A71-0CDA-4F03-876A-D0E017A1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E3FFF-6505-4D99-AF2F-E34E5A8B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3AA26-6B70-4409-8733-113CE08D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7EA8-441F-4FE0-836B-12320119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74ADA-7542-41CA-949A-ECBBF6F7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35D01-979D-46F4-B809-57804E8A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8121B-91CB-4B70-B47D-D20AB5A3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F4049-B426-46B5-954F-3DEB8CC8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01915-B746-4A31-8748-00DF403D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29F97-6EC1-4C42-9122-7A1BB536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9EEE6-34D2-4916-ADC5-C92FADD7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39458-FFC7-4416-8580-739DAEED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4314C-4DCD-4237-B0BD-6FAB30B1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6A355-AC72-4D0F-A076-E7E188E6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80F7-96F6-4413-A93F-D38F9517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97599-D933-4226-ACE7-7D065C46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C3DD7-F390-4934-B255-270EEC05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79B73-8A91-4626-9B61-92248CA6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0A630-9AEA-41E7-B677-6BACCBFB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0D8EB-CA60-4AE7-B6DA-0DF78E61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0F8FD-60EE-4BCD-B7F2-D00703F6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48902-0CB5-4F55-831D-4228DF13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E511D-8586-46B2-BEEC-06F52DF3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29AAC-F4B3-42DB-8A59-A024A4B7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C8430-4F17-40DC-A7C9-206A2115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7F2-03A3-4473-99F9-55C0F2DA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F4A5F-8408-4594-85CF-2F2B8A92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E0219-0C4E-47C9-A538-5D858CD2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1F874-D535-454B-A52B-5B9BC2B5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8F27D-51BC-42D6-8F49-CAB65D9E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C13C0-D2C3-4DD3-AC35-736B5AB3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3EDF7-B4A4-49CF-BCFF-ABF4BA69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DF861-381F-45DB-A5DE-61CA0418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76E69-FCCA-486B-B461-318C4F3F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A43FE-DD06-4B9F-926F-74159C9F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FBF8E-39A7-425C-B96A-46193DFF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8CB-E64E-44B0-BC6C-A8D4627A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E1B03-A6ED-4617-8A50-9A6FB42C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34BCC-6A9B-46D2-8610-764DB1F2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DFD3C-03C6-4AEB-9DE5-64126E4D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47B01-1653-4598-B7D5-A28F7856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D5865-C565-4AD9-8FF3-6BBB0125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B0CA3-7B9A-463B-9E54-3F0A0471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8F8F6-5D41-419E-BFEC-32366D99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48F40-F43F-4834-AF87-56D7DE4B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55F6C-B8BC-4E38-A96C-C62E7EEF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1CED0-11F4-4D40-9238-811177F0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9FE-1A7B-4B86-A728-AA6D7405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478BD-A806-4840-BB97-AE3A0E35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5B047-05A0-4C74-B34B-655CC7C0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F00B0-A633-4F8D-867A-237F623A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77E42-11B4-426D-BBC2-DA1D8D42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B4797-2B80-4C94-89C2-ACC310B0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67516-0D1E-4A25-854F-82E8D486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0F3C6-0388-403E-A2D4-01BE08B1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0B2FA-8224-404D-8DC0-877E567A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1FA2C-AF04-4F10-82B3-6D7BB8E5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BE452-7269-4EA2-A35E-6FC88595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E713-09DA-4179-A369-C75F8D9B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2AB05-086A-4F1C-80E7-D37B04CD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B18A3-283F-43ED-BF20-B4DED67A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C2B83-BA31-4E7E-84CD-01AC11A6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FD857-86AF-4D9B-8DBB-AEEEA4FF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EC078-EC7D-47D8-B923-3305EC45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CA6B1-5C09-4FB4-A1F1-9CF71DF3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309E3-FDDA-4C8B-92F2-D2C7F45A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DB97-F7B7-46A0-8F57-57139427716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004B-1603-4AAD-AEE8-3DA3705449B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6906-998B-48EB-86D3-5D89379D672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5729-4501-4B39-930F-6445135DE5B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D04C-5DA3-477D-A20B-E445777628E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1C00-B01C-4CE2-91A8-4FE1183E996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CBD2-34EE-4B9F-A732-4921290270F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A846-7B3A-4B95-ABFB-933EEADBDAD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682560" y="950760"/>
            <a:ext cx="7785000" cy="26276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9337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Зызыкина И.Ю., заместитель директор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МБОУ Афонинская СШ</a:t>
            </a:r>
            <a:br>
              <a:rPr sz="1800"/>
            </a:b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бласти мотивации учебной деятельности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работе МРЦ «Организация психолого-педагогического сопровождения участников образовательного процесса» (МБОУ СШ № 6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работе Центра профориентации «Твой жизненный выбор» (МБУ ДО ЦВР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семинаре «Диагностика профессиональных дефицитов педагогов. Анализ соответствия результатов диагностик профессиональной компетентности учителей выявленным дефицитам обучающихся» (МБОУ Лицей №7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714320"/>
            <a:ext cx="822960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беспечении достижения запланированных результатов в процессе проведения учебного занятия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познавательная деятельность педагогов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ндивидуальных образовательных маршрутов педагогов по формированию профессиональных компетенци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 опытом по организации продуктивной и результативной деятельности обучающихся на учебном занятии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рвизии – взаимопосещение уроков с последующим анализ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наставничества молодых специалистов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26960" y="244440"/>
            <a:ext cx="8283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2" descr=""/>
          <p:cNvPicPr/>
          <p:nvPr/>
        </p:nvPicPr>
        <p:blipFill>
          <a:blip r:embed="rId1"/>
          <a:stretch/>
        </p:blipFill>
        <p:spPr>
          <a:xfrm>
            <a:off x="920880" y="146160"/>
            <a:ext cx="7802280" cy="146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"/>
          <p:cNvGraphicFramePr/>
          <p:nvPr/>
        </p:nvGraphicFramePr>
        <p:xfrm>
          <a:off x="428760" y="1785960"/>
          <a:ext cx="8501040" cy="4541760"/>
        </p:xfrm>
        <a:graphic>
          <a:graphicData uri="http://schemas.openxmlformats.org/drawingml/2006/table">
            <a:tbl>
              <a:tblPr/>
              <a:tblGrid>
                <a:gridCol w="515880"/>
                <a:gridCol w="2535120"/>
                <a:gridCol w="1525680"/>
                <a:gridCol w="1307880"/>
                <a:gridCol w="261648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й исполнитель, ресур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 ис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жидаемые результаты исполнения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бласти дифференциации и индивидуального развития обучающихся для достижения образовательн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создавать дидактический инструментарий, используемый для  дифференциаци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бласти мотивации учеб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создавать ситуации, обеспечивающие осознанное отношение к изучаемому предмету на основе  профессионального выбора обучаю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существлении контроля и оценки учебных достижений, текущих и итоговых образовательных результа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осуществлять объективную оценку знаний обучающихся на основе различных методов контроля и диагно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Охват программой МР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ешнее формальное обучение – 4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ешнее неформальное обучение – 7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утришкольное формальное обучение – 10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утришкольное неформальное обучение – 10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Информальное образование – 100% педагогов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2. Положительная динамика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профессиональной компетентности педагогов по выявленным дефицитам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– до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4 баллов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(по шкале диагностической методики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3. Эффект от реализации программы МР–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ложительная динамика образовательных результатов обучающихс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 итогам ВПР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 итогам ГИА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311040" y="195120"/>
            <a:ext cx="85154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500040" y="214272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Самооценка и экспертная оценка сформированности компетентности педагогов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Lucida Sans Unicode"/>
              </a:rPr>
              <a:t>Диагностическая методика лаборатории информационно-методического обеспечения выравнивания образовательных результатов ГБОУ ДПО НИРО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547560"/>
          </a:xfrm>
          <a:prstGeom prst="rect">
            <a:avLst/>
          </a:prstGeom>
          <a:ln w="0">
            <a:noFill/>
          </a:ln>
        </p:spPr>
      </p:pic>
      <p:pic>
        <p:nvPicPr>
          <p:cNvPr id="382" name="Содержимое 3" descr=""/>
          <p:cNvPicPr/>
          <p:nvPr/>
        </p:nvPicPr>
        <p:blipFill>
          <a:blip r:embed="rId2"/>
          <a:stretch/>
        </p:blipFill>
        <p:spPr>
          <a:xfrm>
            <a:off x="-6480" y="0"/>
            <a:ext cx="915696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79280" y="476280"/>
            <a:ext cx="8964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 Unicode"/>
              </a:rPr>
              <a:t>Перечень дефицитов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1. Умение формировать цели и результаты программ учебных дисциплин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2. </a:t>
            </a:r>
            <a:r>
              <a:rPr b="0" lang="en-US" sz="1400" spc="-1" strike="noStrike">
                <a:solidFill>
                  <a:srgbClr val="232323"/>
                </a:solidFill>
                <a:latin typeface="Lucida Sans Unicode"/>
              </a:rPr>
              <a:t>Умение разработать собственные методические и дидактические материалы, обеспечивающие достижение планируемых результатов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3. Умение планировать педагогическую деятельность при реализации программ с учетом особенностей обучающихся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.1. Умение учитывать образовательные предметные дефициты обучающихся при отборе содержания учебного материалы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создавать дидактический инструментарий, используемый для дифференциации обучения (4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создавать ситуации, обеспечивающие осознанное отношение к изучаемому предмету на основе профессионального выбора  (5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.3. </a:t>
            </a:r>
            <a:r>
              <a:rPr b="0" lang="en-US" sz="1400" spc="-1" strike="noStrike">
                <a:solidFill>
                  <a:srgbClr val="232323"/>
                </a:solidFill>
                <a:latin typeface="Lucida Sans Unicode"/>
              </a:rPr>
              <a:t>Умение привлекать потенциал родителей к обеспечению необходимого уровня позитивной мотивации к учебной деятельности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4.3. Умение организовывать продуктивную и результативную деятельность обучающихся на учебном заняти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1. Умение использовать системные формы и методы контроля учебных достижений, текущих и итоговых образовательных результатов обучающихс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осуществлять объективную оценку знаний обучающихся на основе различных методов контроля и диагностики(4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3. Умение осуществлять анализ образовательных результатов и корректировать образовательную деятельность в соответствии с его итогам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463680" y="-85680"/>
            <a:ext cx="824220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0" y="0"/>
            <a:ext cx="8978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Категории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8"/>
          <p:cNvSpPr/>
          <p:nvPr/>
        </p:nvSpPr>
        <p:spPr>
          <a:xfrm>
            <a:off x="1214280" y="5500800"/>
            <a:ext cx="6715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1"/>
          <p:cNvSpPr/>
          <p:nvPr/>
        </p:nvSpPr>
        <p:spPr>
          <a:xfrm flipV="1">
            <a:off x="1143000" y="642960"/>
            <a:ext cx="1440" cy="485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8"/>
          <p:cNvSpPr/>
          <p:nvPr/>
        </p:nvSpPr>
        <p:spPr>
          <a:xfrm>
            <a:off x="3059280" y="5572080"/>
            <a:ext cx="4370400" cy="3571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сихологическая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гото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Прямая со стрелкой 20"/>
          <p:cNvCxnSpPr/>
          <p:nvPr/>
        </p:nvCxnSpPr>
        <p:spPr>
          <a:xfrm>
            <a:off x="6643800" y="5857920"/>
            <a:ext cx="71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Прямая со стрелкой 22"/>
          <p:cNvCxnSpPr/>
          <p:nvPr/>
        </p:nvCxnSpPr>
        <p:spPr>
          <a:xfrm flipH="1" flipV="1">
            <a:off x="1928520" y="5785560"/>
            <a:ext cx="714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1" name="Прямоугольник 26"/>
          <p:cNvSpPr/>
          <p:nvPr/>
        </p:nvSpPr>
        <p:spPr>
          <a:xfrm>
            <a:off x="7715160" y="5715000"/>
            <a:ext cx="100008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Высо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7"/>
          <p:cNvSpPr/>
          <p:nvPr/>
        </p:nvSpPr>
        <p:spPr>
          <a:xfrm>
            <a:off x="500040" y="5643720"/>
            <a:ext cx="100008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Низ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8"/>
          <p:cNvSpPr/>
          <p:nvPr/>
        </p:nvSpPr>
        <p:spPr>
          <a:xfrm rot="16200000">
            <a:off x="-928440" y="2928600"/>
            <a:ext cx="3643200" cy="35748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рофессиональная гото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Прямая со стрелкой 29"/>
          <p:cNvCxnSpPr/>
          <p:nvPr/>
        </p:nvCxnSpPr>
        <p:spPr>
          <a:xfrm flipV="1">
            <a:off x="927720" y="999360"/>
            <a:ext cx="10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5" name="Прямая со стрелкой 30"/>
          <p:cNvCxnSpPr/>
          <p:nvPr/>
        </p:nvCxnSpPr>
        <p:spPr>
          <a:xfrm flipH="1">
            <a:off x="928440" y="5072040"/>
            <a:ext cx="21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6" name="Прямоугольник 31"/>
          <p:cNvSpPr/>
          <p:nvPr/>
        </p:nvSpPr>
        <p:spPr>
          <a:xfrm>
            <a:off x="142920" y="357120"/>
            <a:ext cx="107136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Высо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50"/>
          <p:cNvSpPr/>
          <p:nvPr/>
        </p:nvSpPr>
        <p:spPr>
          <a:xfrm flipH="1">
            <a:off x="4642920" y="714240"/>
            <a:ext cx="1800" cy="478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52"/>
          <p:cNvSpPr/>
          <p:nvPr/>
        </p:nvSpPr>
        <p:spPr>
          <a:xfrm>
            <a:off x="1143000" y="2928960"/>
            <a:ext cx="6357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62"/>
          <p:cNvSpPr/>
          <p:nvPr/>
        </p:nvSpPr>
        <p:spPr>
          <a:xfrm>
            <a:off x="4716360" y="692280"/>
            <a:ext cx="3959280" cy="21668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Успешные: могут и хот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Мотивированы, изменения представляют личностную ц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-Успешны в  освоении образовательных технологий на основе личных убеждений, глубокого осмысления теоретических основ, опыта реальных ситу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4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63"/>
          <p:cNvSpPr/>
          <p:nvPr/>
        </p:nvSpPr>
        <p:spPr>
          <a:xfrm>
            <a:off x="1285920" y="642960"/>
            <a:ext cx="3286080" cy="22147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Пассивные: могут, но не хотя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гут применять новые технологии в своей деятельности, но это зависит от формы стимул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Изменения воспринимают как необходим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64"/>
          <p:cNvSpPr/>
          <p:nvPr/>
        </p:nvSpPr>
        <p:spPr>
          <a:xfrm>
            <a:off x="4714920" y="3000240"/>
            <a:ext cx="3929040" cy="24289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00"/>
                </a:solidFill>
                <a:uFillTx/>
                <a:latin typeface="Comic Sans MS"/>
              </a:rPr>
              <a:t>Активные: хотят, но не могу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-Позитивно относятся к изменениям, изменения представляют личностную ц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-Дублируют новые подходы в своей деятельности без теоретического их осмысления, не умеют их творчески перерабат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65"/>
          <p:cNvSpPr/>
          <p:nvPr/>
        </p:nvSpPr>
        <p:spPr>
          <a:xfrm>
            <a:off x="1285920" y="3357720"/>
            <a:ext cx="3286080" cy="200016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Comic Sans MS"/>
              </a:rPr>
              <a:t>Инертные: не хотят и не могу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omic Sans MS"/>
              </a:rPr>
              <a:t>-Используют старые формы и методы деятельности, имитируют процесс внедрения нов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Comic Sans MS"/>
              </a:rPr>
              <a:t>-Не мотивированы на изменения, действуют только по требованию руко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Lucida Sans Unicode"/>
              </a:rPr>
              <a:t>повышение уровня профессиональных компетентностей  учителей для достижения стабильно положительных образовательных результатов обучающихся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разработки и реализации образовательных программ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дифференциации и индивидуализации обучения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мотивации учебной деятельност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существлении контроля и оценки учебных достижений, текущих и итоговых образовательных результатов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1. По целевым установкам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ддерживающее, обеспечивающее функционирование обучени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азвивающее обучение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2. По формам организации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1.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Внешнее обучение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 программам ГБОУ ДПО НИРО (план-график 2019-2020) – на бюджетной основ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на территории учреждений-партнеров г. Кстово (МБОУ Лицей № 7, МБОУ СШ № 6, МБУ ДО ЦВР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2.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Внутришкольное обучение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с приглашением специалистов ГБОУ ДПО НИРО (по договору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в районе по плану ИМО департамента образования Кстовского муниципального района (занятия РМО, творческих и проблемных групп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ающие семинары, практикумы (педагоги и руководители ОО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57120" y="1571760"/>
            <a:ext cx="83296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и в области дифференциации и индивидуализации обучени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Дифференцированный подход в подготовке учащихся к ЕГЭ по русскому языку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Дифференцированный подход в подготовке учащихся к ЕГЭ по обществознанию 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Методика подготовки к ЕГЭ и ОГЭ по истории и обществознанию", 18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Организация подготовки выпускников 11 классов к ГИА по математике", 18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Проектирование учебного занятия по предметам естественнонаучного цикла в условиях реализации ФГОС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42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57120" y="1571760"/>
            <a:ext cx="83296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существлении контроля и оценки учебных достижений, текущих и итоговых образовательных результатов обучающихс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Заявка на обучение педагогов и руководителей ОО на внебюджетной основе (ГБОУ ДПО НИРО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42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3T08:03:20Z</dcterms:created>
  <dc:creator>Владелец</dc:creator>
  <dc:description/>
  <dc:language>en-US</dc:language>
  <cp:lastModifiedBy>*</cp:lastModifiedBy>
  <dcterms:modified xsi:type="dcterms:W3CDTF">2019-12-09T07:31:41Z</dcterms:modified>
  <cp:revision>98</cp:revision>
  <dc:subject/>
  <dc:title>Программа методической работы</dc:title>
</cp:coreProperties>
</file>