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10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95F9A-7918-46D8-B508-CF341770A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B1436-6C2C-448C-A2A4-938DF2428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3C258-0111-420A-BDCB-2CF93327F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A6B76-0788-4EAF-B352-7C5BC6251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9E728-75C8-4A9C-AA01-349C41361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0387A-B2C4-449D-B198-368B47F10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88519-0924-4C41-8A68-6317E490F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B5E24-0DA2-4907-BE53-F95C62311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706E2-2830-4AED-BF7F-7A7F76647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27CA5-5FDE-4F80-956F-46E806892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3D790-B58E-4948-B520-7AA529DBF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9F8FF-EC52-4B11-A4FC-BAB84DE5C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16996-D9A6-4C90-B930-037F490DC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CD406-B4D7-4872-8D79-F6AFDD90A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1A0FF-9574-4703-84AB-6F98874FA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138C9-BC5B-4E61-860C-43AA99A55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13BE6-9670-4CCD-9CE5-2EB2512B8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5909D2-D2C6-4A9D-B0A7-B523E5343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210BAA-97B5-43E4-B121-19B59829F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54CF4C-DA45-4C04-B489-E106CBC91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6B3502-25CC-4B8E-A2EB-63EB014A4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F66CD7-9FC6-41E9-B145-BD04F3823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20E9B-2D83-49A1-A106-3FF89745F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3A585F-E21B-4D65-87F9-422384626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721919-69BB-4A32-9505-AC9F387D4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AAA88D-D363-4A37-ABE1-63C1A53E6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03EDA9-5AA9-421F-B321-136ABFA37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A1B28E-F45E-4AE1-B181-B4A492AD5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52B7D3-994B-4D39-87D6-82461B1C0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A2A253-BB27-4D8E-93F9-1B5C8F1F3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CFFF44-BF01-4F34-BC59-CE07C02A4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0FA5EC-9115-401C-BDFA-99771D436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077237-AC81-4C23-BFD5-F2F77143D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AA9C7-8816-4560-92EF-2563E0402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B3957F-568D-4058-B7DE-AE4301CE1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5267AD-A5CB-423A-B60C-948E42B1E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C24906-5273-4789-9F2D-97196CE84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D3B0D8-DEF7-4C48-84AA-5BD920B57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EC7788-8BE1-4108-BBA5-0394039D3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A43AFE-7D43-466B-80AB-F06435C95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EE2691-51B2-40CF-8441-91DE0A003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C4CCF0-D62B-43E5-A8F7-812F0BCD4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828A37-952C-45AF-82AB-FB63A0D0F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06F783-9782-4860-842C-7B1B5982B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8E353-CDE1-4143-807A-0A26D285C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9CCB5A-7471-45B5-A9DA-AD004E7C9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E6B206-CF3A-46CD-8FB4-16C537B59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2FA9E7-E787-4D87-9B71-5E2B10496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CF2A53-116C-499D-8BC9-2D90B582B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CA6659-4614-45E9-BAE7-69A897D8E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F0C50E-9D68-4056-AC33-2BF7995BF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0A6A83-B1CF-4CD4-BE15-027DF7221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711B9E-3D25-41C8-BA50-BEA4BDBD8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0463F6-1849-4D6B-83A3-5C3D3604F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9479B3-13B3-472B-A078-AE0333766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BD643-AA85-4E7A-901A-A30CFBEE2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A60F72-BD48-4F52-B6D9-5554DA785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1E524D-E48B-469B-8CA2-760EDC171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27830D-4F09-4562-BAD7-DE431B82D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E45395-5357-4C9C-91B9-BC85555E2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25B515-E3B1-4DE3-A788-186EB75E2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E02217-C56A-480A-9E25-D9EEDFDAA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998F20-714A-436A-ACF6-881B633E7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477C5C-B090-4B71-985A-472D5FAEA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AEDDD3-F8B6-450F-9E20-9CE8AD60B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556F57-C5BB-4BFE-B98B-8AF463E09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971FB-1998-462F-A1B6-99EFFC5B2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C91B9F-1629-4E1C-B82D-9D0E0EE1D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3162FA-A2AF-4A4B-89F0-1934BD020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D71D30-3DCE-4995-B412-56B67BAD9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7F5276-9068-4C50-8751-A65288654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EE75F7-27C2-4C68-A53B-078A1C349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A3EA80-FA04-4514-8F8F-C8050421C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5BCDAD-B379-443A-A57D-BC47C3E4B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5262AE-A66B-4A53-B8C3-C2C069675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0A826C-13F4-4656-9422-8C3D2BCC7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3F5AB1-B30E-46FC-AF6C-8C7FF54E7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0801E-E7DE-4673-BBD7-170CC6E61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CDA396-8FE1-4F99-8B54-4ED0764DD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F3153F-DEFC-4920-A7A6-046FDFF95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2ED5CC-6C12-40D3-8514-5095DF758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F57271-F08A-4156-94C4-31AAC508A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4E3D33-341A-4F18-8C82-DBE28BCA7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2118C-F1CE-4ACD-A6F1-84D7EB776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D54C9-E192-4A2B-B9A8-FC37F9EB4203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B2FAA-0171-4C56-A8F6-F7213018AF08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52334-4CC4-453D-AA5C-DE21B2D69797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59410-7DC6-4635-97A6-A0CC755508D6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1C77E-0F68-44A3-9DB5-B0FA9C0E8361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1FD4A-63AB-43DE-8AAA-823991462E3C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89B63-32EE-440C-B2AF-4FEBB6A5F64E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b2203"/>
                </a:solidFill>
                <a:latin typeface="Times New Roman"/>
                <a:ea typeface="Times New Roman"/>
              </a:rPr>
              <a:t>Муниципальное бюджетное общеобразовательное учреждение «Коневская основная общеобразовательная школа»</a:t>
            </a:r>
            <a:br>
              <a:rPr sz="2000"/>
            </a:br>
            <a:endParaRPr b="0" lang="en-US" sz="2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2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824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824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95959"/>
                </a:solidFill>
                <a:latin typeface="Corbel"/>
              </a:rPr>
              <a:t>Преодоление разрыва в образовательных возможностях и достижениях обучающихся, обусловленных социально-экономическими характеристиками их семей, сложностью контингента и их переход в статус резильентных за счёт повышения педагогического и ресурсного потенциала школы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8244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82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82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82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595959"/>
                </a:solidFill>
                <a:latin typeface="Corbel"/>
              </a:rPr>
              <a:t>2020 -2021 уч. год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0" name="Picture 4" descr="C:\Users\Инна\AppData\Local\Microsoft\Windows\Temporary Internet Files\Content.IE5\5WAUPLBX\81266624ef02[1].png"/>
          <p:cNvPicPr/>
          <p:nvPr/>
        </p:nvPicPr>
        <p:blipFill>
          <a:blip r:embed="rId1"/>
          <a:stretch/>
        </p:blipFill>
        <p:spPr>
          <a:xfrm>
            <a:off x="1830240" y="3860640"/>
            <a:ext cx="245448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611617"/>
                </a:solidFill>
                <a:latin typeface="Corbel"/>
              </a:rPr>
              <a:t>Описание ситуации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595959"/>
                </a:solidFill>
                <a:latin typeface="Corbel"/>
              </a:rPr>
              <a:t>МБОУ «Коневская ООШ» расположена в Балахнинском районе Нижегородской области в деревне Конево. В школе 60 обучающихся 1-9 классов, 12 учителей.</a:t>
            </a:r>
            <a:br>
              <a:rPr sz="1800"/>
            </a:br>
            <a:r>
              <a:rPr b="0" lang="ru-RU" sz="1800" spc="-1" strike="noStrike">
                <a:solidFill>
                  <a:srgbClr val="595959"/>
                </a:solidFill>
                <a:latin typeface="Corbel"/>
              </a:rPr>
              <a:t>Одной из ключевых проблем  школы являлась недостаточная предметная и методическая компетентность педагогических работников. </a:t>
            </a:r>
            <a:br>
              <a:rPr sz="1800"/>
            </a:br>
            <a:r>
              <a:rPr b="0" lang="ru-RU" sz="1800" spc="-1" strike="noStrike">
                <a:solidFill>
                  <a:srgbClr val="595959"/>
                </a:solidFill>
                <a:latin typeface="Corbel"/>
              </a:rPr>
              <a:t>Не все педагоги в полной мере усвоили приемы работы с мультимедиа и другой современной аппаратурой, проведение онлайн-уроков</a:t>
            </a:r>
            <a:r>
              <a:rPr b="0" lang="ru-RU" sz="1800" spc="-1" strike="noStrike">
                <a:solidFill>
                  <a:srgbClr val="572314"/>
                </a:solidFill>
                <a:latin typeface="Corbel"/>
              </a:rPr>
              <a:t>.</a:t>
            </a:r>
            <a:br>
              <a:rPr sz="1800"/>
            </a:br>
            <a:endParaRPr b="0" lang="en-US" sz="1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1434960" y="1268280"/>
            <a:ext cx="7499520" cy="498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95959"/>
                </a:solidFill>
                <a:latin typeface="Corbel"/>
              </a:rPr>
              <a:t>Основная</a:t>
            </a:r>
            <a:r>
              <a:rPr b="0" lang="ru-RU" sz="1800" spc="-1" strike="noStrike">
                <a:solidFill>
                  <a:srgbClr val="595959"/>
                </a:solidFill>
                <a:latin typeface="Corbel"/>
              </a:rPr>
              <a:t> </a:t>
            </a:r>
            <a:r>
              <a:rPr b="1" lang="ru-RU" sz="1800" spc="-1" strike="noStrike">
                <a:solidFill>
                  <a:srgbClr val="595959"/>
                </a:solidFill>
                <a:latin typeface="Corbel"/>
              </a:rPr>
              <a:t>цель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95959"/>
                </a:solidFill>
                <a:latin typeface="Corbel"/>
              </a:rPr>
              <a:t>Разработка и реализация комплекса мер по снижению уровня значимости рисков снижения результатов обучения для перехода школы в статус резильентных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e190d"/>
                </a:solidFill>
                <a:latin typeface="Times New Roman"/>
                <a:ea typeface="Calibri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402920" y="404280"/>
            <a:ext cx="7489800" cy="1295640"/>
          </a:xfrm>
          <a:prstGeom prst="rect">
            <a:avLst/>
          </a:prstGeom>
          <a:noFill/>
          <a:ln w="9360">
            <a:solidFill>
              <a:srgbClr val="26262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2314"/>
                </a:solidFill>
                <a:latin typeface="Corbel"/>
              </a:rPr>
              <a:t>Основная </a:t>
            </a:r>
            <a:r>
              <a:rPr b="0" lang="ru-RU" sz="1800" spc="-1" strike="noStrike">
                <a:solidFill>
                  <a:srgbClr val="572314"/>
                </a:solidFill>
                <a:latin typeface="Corbel"/>
              </a:rPr>
              <a:t> </a:t>
            </a:r>
            <a:r>
              <a:rPr b="1" lang="ru-RU" sz="1800" spc="-1" strike="noStrike">
                <a:solidFill>
                  <a:srgbClr val="572314"/>
                </a:solidFill>
                <a:latin typeface="Corbel"/>
              </a:rPr>
              <a:t>задача:</a:t>
            </a:r>
            <a:br>
              <a:rPr sz="1800"/>
            </a:br>
            <a:endParaRPr b="0" lang="en-US" sz="1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677600" y="907560"/>
            <a:ext cx="70707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2440">
              <a:lnSpc>
                <a:spcPct val="115000"/>
              </a:lnSpc>
              <a:spcBef>
                <a:spcPts val="6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824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Разработка и реализация программы методической работы с педагогами, имеющими предметные и методические дефициты компетентностей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824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-  проведение консультирования педагогов с низкими предметными и методическими компетентностями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824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- организация прохождения курсов повышения квалификации и в соответствии с выявленными профессиональными дефицитами;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824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- разработка и реализация индивидуальных планов профессионального развития педагогов по ликвидации профессиональных дефицитов;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824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- подготовка и организация мероприятий по обмену опытом между педагогами школы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824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52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72314"/>
                </a:solidFill>
                <a:latin typeface="Corbel"/>
              </a:rPr>
              <a:t>Описание результата</a:t>
            </a:r>
            <a:endParaRPr b="0" lang="en-US" sz="2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1434960" y="692280"/>
            <a:ext cx="7499520" cy="555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95959"/>
                </a:solidFill>
                <a:latin typeface="Corbel"/>
              </a:rPr>
              <a:t>Инструментарий диагностики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824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95959"/>
                </a:solidFill>
                <a:latin typeface="Corbel"/>
              </a:rPr>
              <a:t>	</a:t>
            </a:r>
            <a:r>
              <a:rPr b="0" lang="ru-RU" sz="1800" spc="-1" strike="noStrike">
                <a:solidFill>
                  <a:srgbClr val="595959"/>
                </a:solidFill>
                <a:latin typeface="Corbel"/>
              </a:rPr>
              <a:t>Проведение мониторинга профессиональных компетентностей педагогов. Разработка инструментария и проведение диагностики профессиональных компетентностей педагогов: диагностика проведена на сайте Я Учитель  </a:t>
            </a:r>
            <a:r>
              <a:rPr b="1" lang="ru-RU" sz="1800" spc="-1" strike="noStrike">
                <a:solidFill>
                  <a:srgbClr val="595959"/>
                </a:solidFill>
                <a:latin typeface="Corbel"/>
              </a:rPr>
              <a:t> («Профиль компетенций») </a:t>
            </a:r>
            <a:r>
              <a:rPr b="0" lang="ru-RU" sz="1800" spc="-1" strike="noStrike">
                <a:solidFill>
                  <a:srgbClr val="595959"/>
                </a:solidFill>
                <a:latin typeface="Corbel"/>
              </a:rPr>
              <a:t>с указанием результатов компетенций учителей, через определенный период  времени проведена повторная диагностика (результаты указаны в диаграмме)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824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7" name="Диаграмма 4" descr=""/>
          <p:cNvPicPr/>
          <p:nvPr/>
        </p:nvPicPr>
        <p:blipFill>
          <a:blip r:embed="rId1"/>
          <a:stretch/>
        </p:blipFill>
        <p:spPr>
          <a:xfrm>
            <a:off x="2289240" y="3017880"/>
            <a:ext cx="5573520" cy="27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72314"/>
                </a:solidFill>
                <a:latin typeface="Corbel"/>
              </a:rPr>
              <a:t> 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639720" y="62064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95959"/>
                </a:solidFill>
                <a:latin typeface="Corbel"/>
              </a:rPr>
              <a:t>               </a:t>
            </a:r>
            <a:r>
              <a:rPr b="0" lang="ru-RU" sz="1800" spc="-1" strike="noStrike">
                <a:solidFill>
                  <a:srgbClr val="595959"/>
                </a:solidFill>
                <a:latin typeface="Corbel"/>
              </a:rPr>
              <a:t>Разработана программа методической работы с педагогами, имеющими предметные и методические дефициты компетентностей</a:t>
            </a:r>
            <a:br>
              <a:rPr sz="1800"/>
            </a:br>
            <a:r>
              <a:rPr b="0" lang="ru-RU" sz="1800" spc="-1" strike="noStrike">
                <a:solidFill>
                  <a:srgbClr val="595959"/>
                </a:solidFill>
                <a:latin typeface="Corbel"/>
              </a:rPr>
              <a:t>         Содержательный план проведения консультаций педагогов с низкими предметными и методическими компетентностями.</a:t>
            </a:r>
            <a:br>
              <a:rPr sz="1800"/>
            </a:br>
            <a:r>
              <a:rPr b="0" lang="ru-RU" sz="1800" spc="-1" strike="noStrike">
                <a:solidFill>
                  <a:srgbClr val="595959"/>
                </a:solidFill>
                <a:latin typeface="Corbel"/>
              </a:rPr>
              <a:t>         График прохождения курсов повышения квалификации</a:t>
            </a:r>
            <a:br>
              <a:rPr sz="1800"/>
            </a:br>
            <a:r>
              <a:rPr b="0" lang="ru-RU" sz="1800" spc="-1" strike="noStrike">
                <a:solidFill>
                  <a:srgbClr val="595959"/>
                </a:solidFill>
                <a:latin typeface="Corbel"/>
              </a:rPr>
              <a:t>         Индивидуальны планы профессионального развития педагогов по ликвидации профессиональных дефицитов.</a:t>
            </a:r>
            <a:br>
              <a:rPr sz="1800"/>
            </a:br>
            <a:r>
              <a:rPr b="0" lang="ru-RU" sz="1800" spc="-1" strike="noStrike">
                <a:solidFill>
                  <a:srgbClr val="595959"/>
                </a:solidFill>
                <a:latin typeface="Corbel"/>
              </a:rPr>
              <a:t>         Банк методических материалов педагогов, мультимедийные презентации  с описанием опыта педагогов.</a:t>
            </a:r>
            <a:br>
              <a:rPr sz="1800"/>
            </a:br>
            <a:r>
              <a:rPr b="0" lang="ru-RU" sz="1800" spc="-1" strike="noStrike">
                <a:solidFill>
                  <a:srgbClr val="595959"/>
                </a:solidFill>
                <a:latin typeface="Corbel"/>
              </a:rPr>
              <a:t>         Информационная справка с выводами о динамике уровня развития предметных и методических компетентностей педагогов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0" name="Picture 5" descr="C:\Users\A4F7~1\AppData\Local\Temp\Rar$DIa2644.22603\1624528579928.jpg"/>
          <p:cNvPicPr/>
          <p:nvPr/>
        </p:nvPicPr>
        <p:blipFill>
          <a:blip r:embed="rId1"/>
          <a:stretch/>
        </p:blipFill>
        <p:spPr>
          <a:xfrm>
            <a:off x="1692360" y="3825720"/>
            <a:ext cx="1660320" cy="222120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6" descr="C:\Users\A4F7~1\AppData\Local\Temp\Rar$DIa2644.30585\1624528581606.jpg"/>
          <p:cNvPicPr/>
          <p:nvPr/>
        </p:nvPicPr>
        <p:blipFill>
          <a:blip r:embed="rId2"/>
          <a:stretch/>
        </p:blipFill>
        <p:spPr>
          <a:xfrm>
            <a:off x="3848040" y="3828960"/>
            <a:ext cx="1660680" cy="221796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7" descr="C:\Users\A4F7~1\AppData\Local\Temp\Rar$DIa2644.37208\1624528582314.jpg"/>
          <p:cNvPicPr/>
          <p:nvPr/>
        </p:nvPicPr>
        <p:blipFill>
          <a:blip r:embed="rId3"/>
          <a:stretch/>
        </p:blipFill>
        <p:spPr>
          <a:xfrm>
            <a:off x="6084720" y="3825720"/>
            <a:ext cx="1656000" cy="221472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8" descr="C:\Users\Андрей\Downloads\1624529682694.jpg"/>
          <p:cNvPicPr/>
          <p:nvPr/>
        </p:nvPicPr>
        <p:blipFill>
          <a:blip r:embed="rId4"/>
          <a:stretch/>
        </p:blipFill>
        <p:spPr>
          <a:xfrm>
            <a:off x="-9791640" y="-15773400"/>
            <a:ext cx="2519280" cy="33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72314"/>
                </a:solidFill>
                <a:latin typeface="Corbel"/>
              </a:rPr>
              <a:t>Заключение</a:t>
            </a:r>
            <a:br>
              <a:rPr sz="2400"/>
            </a:br>
            <a:endParaRPr b="0" lang="en-US" sz="24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1434960" y="836280"/>
            <a:ext cx="749952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2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95959"/>
                </a:solidFill>
                <a:latin typeface="Corbel"/>
              </a:rPr>
              <a:t>Положительная динамика уровня развития предметных и методических компетентностей педагогов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82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95959"/>
                </a:solidFill>
                <a:latin typeface="Corbel"/>
              </a:rPr>
              <a:t>Повышение качества знаний</a:t>
            </a:r>
            <a:r>
              <a:rPr b="1" lang="ru-RU" sz="1800" spc="-1" strike="noStrike">
                <a:solidFill>
                  <a:srgbClr val="595959"/>
                </a:solidFill>
                <a:latin typeface="Corbel"/>
              </a:rPr>
              <a:t> </a:t>
            </a:r>
            <a:r>
              <a:rPr b="0" lang="ru-RU" sz="1800" spc="-1" strike="noStrike">
                <a:solidFill>
                  <a:srgbClr val="595959"/>
                </a:solidFill>
                <a:latin typeface="Corbel"/>
              </a:rPr>
              <a:t>  обучающихся основной школы в 2020-2021 учебном году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82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95959"/>
                </a:solidFill>
                <a:latin typeface="Corbel"/>
              </a:rPr>
              <a:t>Улучшились результаты ОГЭ. Все выпускники школы закончили обучение на «4» и «5»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824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6" name="Диаграмма 3" descr=""/>
          <p:cNvPicPr/>
          <p:nvPr/>
        </p:nvPicPr>
        <p:blipFill>
          <a:blip r:embed="rId1"/>
          <a:stretch/>
        </p:blipFill>
        <p:spPr>
          <a:xfrm>
            <a:off x="2505240" y="2873520"/>
            <a:ext cx="3989160" cy="36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6T07:36:20Z</dcterms:created>
  <dc:creator>1</dc:creator>
  <dc:description/>
  <dc:language>en-US</dc:language>
  <cp:lastModifiedBy>Андрей</cp:lastModifiedBy>
  <dcterms:modified xsi:type="dcterms:W3CDTF">2021-06-24T10:40:09Z</dcterms:modified>
  <cp:revision>162</cp:revision>
  <dc:subject/>
  <dc:title>Министерство образования Российской Федерации Среднего профессионального образования Нижегородский машиностроительный техникум</dc:title>
</cp:coreProperties>
</file>